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B6E-0816-4A85-B763-BF548960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A3E-05D6-490F-9B5F-CF4FA052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F2D-5927-4268-88FD-6637FF90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020-064E-4FB1-9F29-66AC570B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8924-B307-4FA9-B906-99C543D3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D30C-4720-4148-A4BF-3841B7AC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768F-FC3F-4138-8741-D7C881B4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D3D4-4630-48E1-A784-2A3B172D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E9C7-15CA-4E48-B73E-C2CE6EE3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C43C-9451-4DB3-8BAC-71812D2F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6E25-BB22-4C56-86FC-22CB1C55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7DE-9262-4F2D-9B4B-FC77C842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400B-1563-473D-BA0E-8AA10047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B01A-1681-42FD-AA77-183CCBA0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A55B-3D81-4301-B9F1-A151A8A6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2402-2160-4CFF-8656-50627EBA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5675-26BF-4FA8-B4C4-2744DEF3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723-2EA5-4494-9BDB-2596D37D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B04-3988-4F89-A46C-59564F34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442-DA07-44B9-A9D5-DE432014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993-DAAD-4E24-A87C-08A2FA4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EFE-4A20-4902-92AD-4D46FA0F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8DE-8B9A-405E-A818-41E0DDD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9AA-0FA5-4972-AF69-48CF77B6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E8BC-8748-46F9-B65F-17C2C294C2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31C5-A236-4138-A8F7-53CF039862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14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Times New Roman"/>
              </a:rPr>
              <a:t>Б Е Л К И</a:t>
            </a: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7" descr="{B074B8AD-67A9-4515-98C6-26CB297AE431}"/>
          <p:cNvPicPr/>
          <p:nvPr/>
        </p:nvPicPr>
        <p:blipFill>
          <a:blip r:embed="rId1"/>
          <a:stretch/>
        </p:blipFill>
        <p:spPr>
          <a:xfrm>
            <a:off x="1692360" y="2565360"/>
            <a:ext cx="5976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енатурация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рушение природной структуры белка (под действием нагревания и химических реагент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Необратимая денатурация белка куриного яйца под воздействием высокой температуры"/>
          <p:cNvPicPr/>
          <p:nvPr/>
        </p:nvPicPr>
        <p:blipFill>
          <a:blip r:embed="rId1"/>
          <a:stretch/>
        </p:blipFill>
        <p:spPr>
          <a:xfrm>
            <a:off x="1547640" y="1882800"/>
            <a:ext cx="49690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мфотернос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йства кисло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 свойства осно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340000" y="3213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1979640" y="407664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ветные реакции белков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–  качественные реакц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а) ксантопротеиновая реакци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лок +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конц.  →   желтое окраш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б) биуретовая реакц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Белок +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u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H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↓ → раствор фиолетового цв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)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орение 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апах жжённых перь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интез бел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Молекулярная модель малой (слева) и большой (справа) субъединиц бактериальной рибосомы — молекулярной машины, синтезирующей белки. Голубым цветом показаны белки в составе рибосомы, но основную структурную роль выполняет рРНК"/>
          <p:cNvPicPr/>
          <p:nvPr/>
        </p:nvPicPr>
        <p:blipFill>
          <a:blip r:embed="rId1"/>
          <a:stretch/>
        </p:blipFill>
        <p:spPr>
          <a:xfrm>
            <a:off x="900000" y="1208160"/>
            <a:ext cx="61200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L23p10p01"/>
          <p:cNvPicPr/>
          <p:nvPr/>
        </p:nvPicPr>
        <p:blipFill>
          <a:blip r:embed="rId1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мецкий химик Эмиль Фишер первым выяснил, как построены молекулы белков и заложил основы их химического синтеза. В начале 20 века Фишер доказал пептидную теорию строения белков, выдвинутую русским химиком Данилевским, синтезировав полипептиды состоящие из 3 – 18 аминокислотных остат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редерик Грант Бантинг – канадский ученый, в 1923 году  стал лауреатом Нобелевской премии за открытие и изучение инсулин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87880" cy="6205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53964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14.11.1891–22.2.19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71680" y="9284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1992 году был получен гормон инсулин, позво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яющий контролировать сахарный диаб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356000" y="3530520"/>
            <a:ext cx="43927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кс Фердинанд Перутц – австрийский ученый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1937 года изучал структуру гемоглобин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210200" cy="5762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759240" y="6308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1914-2002), Авс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4067280" y="3284640"/>
            <a:ext cx="4716360" cy="3295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акс Фердинанд Перутц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сшифровал пространственное строение молеку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моглобина и построил ее точную моде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Член Национальной академии наук США (с 1970 года), Австрийской АН в Вене (с 1963 года), Американской академии искусств и наук (с 1963 года). Лауреат Нобелевской премии по химии за 1962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363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ль белков в клетк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Строительный материа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лочки, органоидов и мембран клетки. Из них построены кровеносные сосуды, сухожилия, волос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Каталитическая функция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клеточные катализаторы – бел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гательная функция.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тительные белки вызывают всякое дви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сюду, где мы встречаем жизнь, мы находим, что она связана с каким-либо белковым телом, и повсюду, где мы встречаем какое-либо белковое тело, не находящееся в процессе разложения, мы без исключения встречаем и явление жизни».                                                             ( К. Маркс, Ф.Энгельс. Собрание сочинений. Т.20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Транспортная роль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крови гемоглобин присоединяет кислород и разносит по всем ткан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Защитная функция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аботка белковых тел антител для обезвреживания чужеродны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Энергетическая функц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1 г белка выделяется 17,6 кДж энергии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держание белков в различных тканях челове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мышц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 80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селезенке, крови, легк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коло 72%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оже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3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ече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57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мозг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5%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ировая ткань, костная и ткань зуб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держат от 14 до 28% бел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Белки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– это сложные высокомолекулярные природные соединения, построенные из остатков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α – аминокислот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  соединенных   пептидными   (амидными)  связями  ―СО ―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H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―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оение белк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Белков в клетках больше, чем каких бы то ни было других органических соединений: на их долю приходится свыше 50% общей сухой массы кле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{89436939-D16C-4693-98C6-D7521CC447A5}"/>
          <p:cNvPicPr/>
          <p:nvPr/>
        </p:nvPicPr>
        <p:blipFill>
          <a:blip r:embed="rId1"/>
          <a:stretch/>
        </p:blipFill>
        <p:spPr>
          <a:xfrm>
            <a:off x="5162400" y="1125360"/>
            <a:ext cx="272268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{D87B3C2D-55E9-4AE4-908B-6815C6D1C768}"/>
          <p:cNvPicPr/>
          <p:nvPr/>
        </p:nvPicPr>
        <p:blipFill>
          <a:blip r:embed="rId2"/>
          <a:stretch/>
        </p:blipFill>
        <p:spPr>
          <a:xfrm>
            <a:off x="5148360" y="394164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уктуры белковой молекул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Уровни структуры белков: 1 — первичная, 2 — вторичная, 3 — третичная, 4 — четвертичная"/>
          <p:cNvPicPr/>
          <p:nvPr/>
        </p:nvPicPr>
        <p:blipFill>
          <a:blip r:embed="rId1"/>
          <a:stretch/>
        </p:blipFill>
        <p:spPr>
          <a:xfrm>
            <a:off x="1116000" y="1197000"/>
            <a:ext cx="5040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ные способы изображения  трёхмерной структуры бел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Разные способы изображения трёхмерной структуры белка на примере фермента триозофосфатизомеразы. Слева — «палочковая» модель, с изображением всех атомов и связей между ними; цветами показаны элементы. В середине изображены структурные мотивы, α-спирали и β-листы. Справа изображена контактная поверхность белка, на основании Ван-дер-Ваальсовых радиусов атомов; цветами показаны особенности активности участков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3422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инокислоты, участвующие в создании белко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ицин                    Алани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ин                      Лейц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лейцин                      С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он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стеин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imag1002"/>
          <p:cNvPicPr/>
          <p:nvPr/>
        </p:nvPicPr>
        <p:blipFill>
          <a:blip r:embed="rId1"/>
          <a:stretch/>
        </p:blipFill>
        <p:spPr>
          <a:xfrm>
            <a:off x="2484360" y="1700280"/>
            <a:ext cx="158292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imag1004"/>
          <p:cNvPicPr/>
          <p:nvPr/>
        </p:nvPicPr>
        <p:blipFill>
          <a:blip r:embed="rId2"/>
          <a:stretch/>
        </p:blipFill>
        <p:spPr>
          <a:xfrm>
            <a:off x="6084720" y="1700280"/>
            <a:ext cx="2087640" cy="90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ag1006"/>
          <p:cNvPicPr/>
          <p:nvPr/>
        </p:nvPicPr>
        <p:blipFill>
          <a:blip r:embed="rId3"/>
          <a:stretch/>
        </p:blipFill>
        <p:spPr>
          <a:xfrm>
            <a:off x="2050920" y="2565360"/>
            <a:ext cx="2376720" cy="987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mag1008"/>
          <p:cNvPicPr/>
          <p:nvPr/>
        </p:nvPicPr>
        <p:blipFill>
          <a:blip r:embed="rId4"/>
          <a:stretch/>
        </p:blipFill>
        <p:spPr>
          <a:xfrm>
            <a:off x="5867280" y="2637000"/>
            <a:ext cx="273708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imag1010"/>
          <p:cNvPicPr/>
          <p:nvPr/>
        </p:nvPicPr>
        <p:blipFill>
          <a:blip r:embed="rId5"/>
          <a:stretch/>
        </p:blipFill>
        <p:spPr>
          <a:xfrm>
            <a:off x="2771640" y="3716280"/>
            <a:ext cx="230508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imag1012"/>
          <p:cNvPicPr/>
          <p:nvPr/>
        </p:nvPicPr>
        <p:blipFill>
          <a:blip r:embed="rId6"/>
          <a:stretch/>
        </p:blipFill>
        <p:spPr>
          <a:xfrm>
            <a:off x="6516720" y="3860640"/>
            <a:ext cx="2158920" cy="835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imag1014"/>
          <p:cNvPicPr/>
          <p:nvPr/>
        </p:nvPicPr>
        <p:blipFill>
          <a:blip r:embed="rId7"/>
          <a:stretch/>
        </p:blipFill>
        <p:spPr>
          <a:xfrm>
            <a:off x="2411280" y="4869000"/>
            <a:ext cx="2305080" cy="86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imag1016"/>
          <p:cNvPicPr/>
          <p:nvPr/>
        </p:nvPicPr>
        <p:blipFill>
          <a:blip r:embed="rId8"/>
          <a:stretch/>
        </p:blipFill>
        <p:spPr>
          <a:xfrm>
            <a:off x="6659640" y="486900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BTAR_RGT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459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BTAR_LFT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885080" y="6237360"/>
            <a:ext cx="434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имические свойства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идрол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ри нагревании с растворами кислот, щелочей, при действии фермент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елок ↔ аминокислоты  →  кровь во все клетки и ткани организ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          O 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 ─N ─CH─C─N ─CH─C=O 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           I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пепт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         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 + 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 + 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               I       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           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ицин                                серин                             цисте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0:34:18Z</dcterms:created>
  <dc:creator>Customer</dc:creator>
  <dc:description/>
  <dc:language>en-US</dc:language>
  <cp:lastModifiedBy>Admin</cp:lastModifiedBy>
  <dcterms:modified xsi:type="dcterms:W3CDTF">2012-02-01T16:45:27Z</dcterms:modified>
  <cp:revision>61</cp:revision>
  <dc:subject/>
  <dc:title>  Презентация подготовлена учителем химии МОУСОШ №1 С.В. Потеевой </dc:title>
</cp:coreProperties>
</file>