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CED-662E-4A8C-9BB2-30E541B1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A21-1D87-4640-B939-161CD36A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A04D6-F874-4A2C-86E2-4A8C8CB6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4F1E0-6002-432B-AB50-6CCDAD31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A5643-108E-463E-B952-3A4CC98E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44594-8DD4-424B-87E8-552DF99A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8928E-7BFB-4A32-8020-3A467005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65D3A-6CF8-411C-ABFC-4C930423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47433-E9D9-454E-A95B-AC5A014F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53CA3-F527-4421-9A43-2A037840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81AD6-E429-4A0E-A2F9-04B944E2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42FEA-331A-4DEB-9CB8-8886C89E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F8A-286C-4CE0-AC7A-4249F016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B822B-2343-4692-B82B-D8E0D9BA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5B080-F780-4649-A2CF-96B072AD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03EC4-065B-441E-ACAF-C88F7BF0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B3ED1-A546-4A15-ADCA-8D11559A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35EB8-F66F-4092-BD78-D62285F6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18DA3-92CE-4E88-96B7-BDFDEF2F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176D6-59D3-435E-8BF0-5A4FAA9F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B17AC-A100-4796-915D-079AC4E2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D8864-3090-4C4F-9449-546A7B2C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425A6-C400-4314-8CD7-43FFDBAF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44B-30E3-438D-864E-486CF3A2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99B1B-C7DC-4DE3-83AC-B5E827BB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1C584-A6B3-4A5F-8888-AFE11873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2663D-1D47-4E16-88BA-410FBD6A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CBBCD-2DFC-483F-A544-3A2937D4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C83BE-8CD5-42DD-9553-2B0D9BA6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FAEDD-A7C5-4AD6-9A86-F75C9E68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B4DE6-8323-46A5-AF65-B73A7B2C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E47CE-BF63-4FE4-A7E1-D31078BB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4F609-0BC6-44AD-A468-0D3FAE3A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7A97B-7615-4721-9064-62E2BB36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1B20-5149-4B63-A042-1A8BBF19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C16D3-5A00-4FD6-9F13-31456D2B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EEF6D-1C14-42A3-AF71-9DD6045F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F064E-5F7A-4CA2-9DC4-E08EC605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64B9B-FD62-48D5-8FAF-3A901FBC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DEF91-721C-4F58-82D7-23C80679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7C9BD-442C-40C3-9859-3B7B087C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376DF-F3FA-427E-8D69-75A1988F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9B12C-ED7C-400F-883D-0ED58E19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239DD-6E4F-4264-AC6B-2847FE60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B9C94-CA0B-42C8-932E-ECE43DBF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CF1A-E903-423D-AFA4-086B3D2C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7F6EC-A547-4FFB-B9A0-923C5BD2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5FA0E-59C3-41ED-9B6C-89A048DE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68746-1D0C-4C3F-9549-28B44300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2DC0E-99E6-4992-97BE-61DA9DEB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A7CC4-4FEB-4523-AB14-446D2D23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B49C2-42E8-4F10-98CB-116C807C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337829-94A3-4601-87EE-CAB2B9C9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30109-783C-4DCC-A495-2449481D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506FF-E0E1-4551-84EE-B2EC81CD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AE6DF-FE36-44F6-A8C1-D810D1DF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082B-259C-4448-A078-D9E7A8BC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F7415-E30F-42F7-88A5-A7ABED10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FA2B3-3CFC-409C-BB1F-58A177C6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701DE-E083-425A-B42B-A15E640D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BD504-F58C-4925-8899-536B3182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F15A7-AD0D-44C0-90FB-C03E18D2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8A765-2BBA-4267-BC3C-A91AFABC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837E1-1AC7-4A6A-BD8C-B4FC94C4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0509-80A9-49FD-A0DD-D4963259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93B7-CA90-4D63-8005-95A0EAA8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DE61-93D6-42A3-BBB7-0A8638F8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FD50-2F7D-4B90-92AF-0E9C34E1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13B4-17F8-4D33-AEDC-F1433D4C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5E4A-4160-4067-BD2B-4B3F17D0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1702-EC64-4F47-90E8-35D5881D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DF4C-E1A8-4F57-888B-CF8CB6ED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EC0B-17E4-442D-9A7C-3F05F304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67DB-3F7F-4C25-BC77-289EDF9B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B8768-618C-41A4-94E1-7250A06C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DB2FB-C27E-4690-8641-FC7F9BEE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F9E07-365C-482F-942B-6DB03BCF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FAE5F-575A-427A-A9C9-86B0FC4B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5F84C-7B90-4AF4-893D-BD0B62A4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008-B283-4A9E-89E6-ED316607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2B1C5-F3A0-4847-B243-43CD2A9C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F6377-0412-4E8E-9FF9-A352E4C1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C1713-6D5B-4418-B506-7C64A8BD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2481F-8848-44F3-B121-5DFD56F7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A37C4-5E95-4195-9A20-9D1B5581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2E0E6-57AB-4D38-A486-CCB6D23B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6B4C7-B6E6-46FE-BD4F-7B544AFC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D1B5E-9DDA-4FA8-8FBE-15894D03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A5680-81B3-49EF-ABF3-88E07673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63603-1457-464A-BFD3-616A16BA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5F4-7BA6-4AED-BB3B-6616365C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99DFA-8A3E-4216-AF25-3C1D4940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B3B92-399C-4A78-AE4D-B0935EC4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A008F-F99A-42D9-ABBF-A0B46041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BC6CA-9745-46F7-B930-0FF0F4C2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B5917-0497-4A55-B062-9F9B3CD6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0AA34-5E52-42CE-B6F3-714B99FE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94A4D-A5A6-4139-A5FA-48EAB7D4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798AD-F14C-4A3D-A0D3-2F45C11E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B6021-F816-4A0D-9E9B-66E62950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2C100-890F-4346-8723-4622F107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702-F5BC-4FD6-AB44-708A9F1D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CCF31-0BC3-4073-A583-52085F5E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B054B-0EE2-463C-AAB1-8DA2DCA8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82F9A-26B5-4596-B661-B41D89BD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0B134-5EC1-4AB9-8705-B04E9999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4D7A3-3225-4A0F-A5C2-8F9B44C2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4868A-762D-4059-8700-2F477881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C6C40-27C9-4109-AD40-FDA6345B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86BA5-ED5C-4A5B-8574-3F4E3EA8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4C504-2031-487B-A59C-278E34E7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41B94-E316-4DF3-B29A-091A151C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B29-6298-4C41-8662-C6D1FE5D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0B871-8926-4AD8-BF7F-9B4CCDC4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7D6A8-44D1-47FE-B81C-42BB68EC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7EFA5-3E6E-486F-83E8-CFCCF380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BCCF8-BBAB-4551-B70D-BD88B3CC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73D6A-46FB-4B81-880E-62135F6F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00BF7-6110-4178-8140-C1B7DCEC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9F13C-C98F-43D6-AF17-7C443930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F7F44-D33D-4D1E-B3F8-122E0EC6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316F7-CD36-4430-9F10-2342C780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28085-B3D2-4D38-A541-8FC7F6D5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E67-B4BB-4418-82D6-CFE6044D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D766B-419B-4689-8F89-512A5EAC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5F4FF-AE73-429C-A36E-5F880A52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96ADA-5D27-4A2D-B024-0D0C6A67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57B2C-E91B-4D3D-8B82-9FAC1BB9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C0825-D51A-4FB4-87E6-2B161BBF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C4B8E-9FDE-4807-95C4-2200AF4A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3984A-AF40-45C3-A8BC-4094E2B5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BFDE1-5A58-48C2-A6FE-B81D6F30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99EF5-71C0-4F4D-BD45-CF06AD42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2E467-FBAF-4AAF-9A82-677ED41C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327-430D-4181-9159-239672E6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DFFBD-75E1-45F0-AB16-2AACC556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F9BE6-A832-4088-9805-71AC98EC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8EDBC-23BB-4BC1-90BD-42330C76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AB7A5-8A7B-4838-97DE-B4C2BB08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F7261-4F85-428A-8A92-099302C8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FC9BE-AE9D-401D-9F54-40C69355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5FFBF-2639-4B39-BB2F-D6636196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4BC21-2F98-4527-9B39-8EA7A96C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0DB3B-4A19-4F71-9761-DDBB056E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664A7-F9AB-4E94-8A27-CD7327E9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990-B4EE-4A98-94FA-D4ACE895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618CF-B1A9-4966-945B-4FB9935F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2BF89-EF9C-4C58-BA3A-67CCCF36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6A3D8-AD42-4AB8-A48D-90845DAE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18D51-E0F8-4A15-8AB9-FA38FE63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EB44D-699F-4CB7-8AE8-AA858FC2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429B6-6255-4F5B-AFC6-9FB285AD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4B492-1732-4705-8472-C91BF23E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25759-BB7D-4F0F-A32C-9231B5CA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37E0B-9E81-4705-AFE2-93664C8E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82DD7-F19C-46C6-81E2-F73540B8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E3BF-33D9-4822-9B02-ED4F16486B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25D8-1232-4CBF-9F44-884A4B7314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B14F-C32F-47C8-A1C4-657F0BA6AB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40D6-647F-4481-8D2F-962E18D250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B3D1-2AFE-4934-A14A-7173EE7C9E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FF95-7320-4374-A262-5BAF55B75B4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C31D-6AF4-4B05-BA94-A9C3EA7055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AD68-CA94-4D2D-BAAA-21660BBB31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DEDD-E751-480B-B73A-A95455B783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BA78-F8DB-43CB-A85E-B6A89A6B06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09F3-86E0-44ED-AABD-23A9DC7D92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51D5-B4CA-49E0-B669-904EA10720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7672-1CEF-44CC-9EA1-43BCE6EAF5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ollege.ru/biology/course/content/chapter8/section1/paragraph6/theory.html" TargetMode="External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i-main-pic" descr="Картинка 502 из 2578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2928960"/>
          </a:xfrm>
          <a:prstGeom prst="rect">
            <a:avLst/>
          </a:prstGeom>
          <a:ln w="0">
            <a:noFill/>
          </a:ln>
        </p:spPr>
      </p:pic>
      <p:sp>
        <p:nvSpPr>
          <p:cNvPr id="598" name="WordArt 4"/>
          <p:cNvSpPr txBox="1"/>
          <p:nvPr/>
        </p:nvSpPr>
        <p:spPr>
          <a:xfrm>
            <a:off x="3357720" y="928800"/>
            <a:ext cx="371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У Г Л Е В О Д Ы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9" name="Picture 7" descr=""/>
          <p:cNvPicPr/>
          <p:nvPr/>
        </p:nvPicPr>
        <p:blipFill>
          <a:blip r:embed="rId2"/>
          <a:stretch/>
        </p:blipFill>
        <p:spPr>
          <a:xfrm>
            <a:off x="0" y="2652840"/>
            <a:ext cx="4500720" cy="42051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"/>
          <p:cNvPicPr/>
          <p:nvPr/>
        </p:nvPicPr>
        <p:blipFill>
          <a:blip r:embed="rId3"/>
          <a:stretch/>
        </p:blipFill>
        <p:spPr>
          <a:xfrm>
            <a:off x="4357800" y="2357280"/>
            <a:ext cx="4786200" cy="450072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2143080" y="5610240"/>
            <a:ext cx="4608720" cy="12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5"/>
          <p:cNvSpPr/>
          <p:nvPr/>
        </p:nvSpPr>
        <p:spPr>
          <a:xfrm>
            <a:off x="4419720" y="457200"/>
            <a:ext cx="4495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й из дисахаридов - сахароза - очень распространен в природе. Это химическое название обычного сахара, называемого тростниковым или свеклович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11"/>
          <p:cNvSpPr/>
          <p:nvPr/>
        </p:nvSpPr>
        <p:spPr>
          <a:xfrm>
            <a:off x="357120" y="4071960"/>
            <a:ext cx="4343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кловичный сахар широко применяется в пищевой промышленности, кулинарии, приготовлении вин, пива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1169640" y="194616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2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929040" cy="3571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3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40006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5" descr="http://www.college.ru/biology/course/content/javagifs/08010204.gif"/>
          <p:cNvPicPr/>
          <p:nvPr/>
        </p:nvPicPr>
        <p:blipFill>
          <a:blip r:embed="rId1"/>
          <a:stretch/>
        </p:blipFill>
        <p:spPr>
          <a:xfrm>
            <a:off x="4648320" y="380880"/>
            <a:ext cx="42670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40" name="Rectangle 8"/>
          <p:cNvSpPr/>
          <p:nvPr/>
        </p:nvSpPr>
        <p:spPr>
          <a:xfrm>
            <a:off x="0" y="3808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олока получают молочный сахар 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актозу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молоке лактоза содержится в довольно значительном количеств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9"/>
          <p:cNvSpPr/>
          <p:nvPr/>
        </p:nvSpPr>
        <p:spPr>
          <a:xfrm>
            <a:off x="0" y="314172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тоза отличается от других сахаров отсутствием гидроскопичности - она не отсыревает. Это свойство имеет большое значение: если нужно приготовить с сахаром какой-либо порошок, содержащий легко гидролизующее лекарство, то берут молочный саха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лактозы очень велико, т.к. она является важным питательным веществом, особенно для растущих организмов человека и млекопитающихся живот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5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304920" y="3049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6"/>
          <p:cNvSpPr/>
          <p:nvPr/>
        </p:nvSpPr>
        <p:spPr>
          <a:xfrm>
            <a:off x="914400" y="3352680"/>
            <a:ext cx="1752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648320" y="228600"/>
            <a:ext cx="4495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довый сахар - это промежуточный продукт при гидролизе крахмала. По другому его называют ещ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ль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к. солодовый сахар получается из крахмала при действии солода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. солод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tu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41148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довый сахар широко распространен как в растительных, так и в животных организмах. Например, он образуется под влиянием ферментов пищеварительного канала, а также при многих технологических процессах бродильной промышленности: винокурения, пивоварении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П О Л И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0" y="1219320"/>
            <a:ext cx="9144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ыми углеводами (полисахаридами или полиозами) называют такие углеводы, которые способны гидролизоваться с образованием простых углеводов и у них число атомов углерода не равно числу атомов кислорода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609480" y="4419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поли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304920" y="51814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оза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люл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хма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ге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5"/>
          <p:cNvSpPr/>
          <p:nvPr/>
        </p:nvSpPr>
        <p:spPr>
          <a:xfrm>
            <a:off x="304920" y="99072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сахари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ят из моносахаридов. Большие размеры делают их молекулы практически нерастворимыми в воде; они не оказывают влияние на клетку и потому удобны в качестве запасных веществ. При необходимости они могут быть превращены обратно в сахара путём гидроли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380880" y="4572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е из полисахаридов - это крахмал, гликоген (животный крахмал), целлюлоза (клетчатка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5"/>
          <p:cNvSpPr/>
          <p:nvPr/>
        </p:nvSpPr>
        <p:spPr>
          <a:xfrm>
            <a:off x="3733920" y="228600"/>
            <a:ext cx="510516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ахма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биополимер, состоящий из остатков глюкозы - первый видимый продукт фотосинтеза. При фотосинтезе крахмал образуется  в растениях  и откладывается  в корнях,  клубнях, семена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хма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белое вещество, состоящее из мельчайших зерен, напоминающих муку, поэтому его второе название «картофельная мука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3" name="Object 0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286080" cy="4114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1" descr="крахмал"/>
          <p:cNvPicPr/>
          <p:nvPr/>
        </p:nvPicPr>
        <p:blipFill>
          <a:blip r:embed="rId2"/>
          <a:stretch/>
        </p:blipFill>
        <p:spPr>
          <a:xfrm>
            <a:off x="250920" y="189000"/>
            <a:ext cx="33112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ЗНАЧЕНИЕ КРАХМАЛА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609120" y="928440"/>
            <a:ext cx="8534520" cy="326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)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ачестве пищевого продукта (хлеб, картофель, крупы и т. д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. Для изготовления  канцелярского кле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. В медицине и фарм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присыпок, паст (густых мазей), а также при производстве таблет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7" name="Picture 6" descr=""/>
          <p:cNvPicPr/>
          <p:nvPr/>
        </p:nvPicPr>
        <p:blipFill>
          <a:blip r:embed="rId1"/>
          <a:stretch/>
        </p:blipFill>
        <p:spPr>
          <a:xfrm>
            <a:off x="684360" y="3143160"/>
            <a:ext cx="31194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5"/>
          <p:cNvSpPr/>
          <p:nvPr/>
        </p:nvSpPr>
        <p:spPr>
          <a:xfrm>
            <a:off x="380880" y="380880"/>
            <a:ext cx="815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тном мире роль «запасного крахмала» играет родственный крахмалу полисахарид 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икоге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ликоген содержится во всех животных тканях.  Особенно много его в печени (до 20%) и в мышцах (4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ген представляет собой белый аморфный порошок, хорошо растворимый  даже в холодной воде. Молекула животного крахмала построена по типу молекул амилопектина, отличаясь лишь большей ветвистост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ярная масса гликогена  исчисляется миллион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7" descr="http://www.college.ru/biology/course/content/chapter8/section1/paragraph2/images/08010207.jpg"/>
          <p:cNvPicPr/>
          <p:nvPr/>
        </p:nvPicPr>
        <p:blipFill>
          <a:blip r:embed="rId1"/>
          <a:stretch/>
        </p:blipFill>
        <p:spPr>
          <a:xfrm>
            <a:off x="428760" y="857160"/>
            <a:ext cx="3943080" cy="525780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8"/>
          <p:cNvSpPr/>
          <p:nvPr/>
        </p:nvSpPr>
        <p:spPr>
          <a:xfrm>
            <a:off x="4648320" y="228600"/>
            <a:ext cx="419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люлоза также является полимером глюкоз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4643280" y="1928880"/>
            <a:ext cx="4038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й заключено около 50 % углерода, содержащегося в растениях. По общей массе на Земле целлюлоза занимает первое место среди органических соединений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8"/>
          <p:cNvSpPr/>
          <p:nvPr/>
        </p:nvSpPr>
        <p:spPr>
          <a:xfrm>
            <a:off x="4714920" y="3500280"/>
            <a:ext cx="414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люлоза (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9"/>
          <p:cNvSpPr/>
          <p:nvPr/>
        </p:nvSpPr>
        <p:spPr>
          <a:xfrm>
            <a:off x="0" y="50004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люлоза – это биополимер, состоящий из остатков глюкозы - ценный источник глюкозы, однако для её расщепления необходим фермент целлюлаза, сравнительно редко встречающийся в природе. Поэтому в пищу целлюлозу употребляют только некоторые животные (например, жвачные). Велико и промышленное значение целлюлозы – из этого вещества изготовляют хлопчатобумажные ткани и бумагу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4" name="Picture 0" descr=""/>
          <p:cNvPicPr/>
          <p:nvPr/>
        </p:nvPicPr>
        <p:blipFill>
          <a:blip r:embed="rId1"/>
          <a:stretch/>
        </p:blipFill>
        <p:spPr>
          <a:xfrm>
            <a:off x="1357200" y="3429000"/>
            <a:ext cx="32148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642600" y="499680"/>
            <a:ext cx="80391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глеводам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зывают вещества с общей формулой C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H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)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где x и y – натуральные числа. Название «углеводы» говорит о том, что в их молекулах водород и кислород находятся в том же отношении, что и в во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1219320" y="4191120"/>
            <a:ext cx="761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 животных клетках содержится небольшое количество углеводов, а в растительных – почти 70 % от общего количества органических веще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5" descr="http://www.college.ru/biology/course/content/javagifs/08010209.gif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25146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6"/>
          <p:cNvSpPr/>
          <p:nvPr/>
        </p:nvSpPr>
        <p:spPr>
          <a:xfrm>
            <a:off x="0" y="3000240"/>
            <a:ext cx="4800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тин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изок к целлюлозе; он встречается у некоторых форм грибов, а также как важный компонент наружного скелета некоторых животны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7" name="Picture 9" descr=""/>
          <p:cNvPicPr/>
          <p:nvPr/>
        </p:nvPicPr>
        <p:blipFill>
          <a:blip r:embed="rId2"/>
          <a:stretch/>
        </p:blipFill>
        <p:spPr>
          <a:xfrm>
            <a:off x="4572000" y="292896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КЛАССИФИКАЦИЯ</a:t>
            </a: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УГЛЕВОДОВ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2920" y="3429000"/>
            <a:ext cx="37339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С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сахар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343400" y="3214800"/>
            <a:ext cx="4800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Ж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дисахарид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исахариды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Line 7"/>
          <p:cNvSpPr/>
          <p:nvPr/>
        </p:nvSpPr>
        <p:spPr>
          <a:xfrm flipH="1">
            <a:off x="2057040" y="2362320"/>
            <a:ext cx="106668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5105520" y="2362320"/>
            <a:ext cx="137160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М О Н О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-360" y="380988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К моно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0" y="4343400"/>
            <a:ext cx="84582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озы  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итроза  тре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озы   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бин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ил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ибоз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ксоз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нн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алак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рук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0" y="14479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ми углеводами (моносахаридами и мономинозами) называют углеводы, которые не способны гидролизоваться с образованием более простых углеводов,  у них число атомов углерода  равно числу атомов кислорода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5"/>
          <p:cNvSpPr/>
          <p:nvPr/>
        </p:nvSpPr>
        <p:spPr>
          <a:xfrm>
            <a:off x="4343400" y="228600"/>
            <a:ext cx="4800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у называют также виноградным сахаром, так как она содержится в  большом количестве в виноградном соке. Кроме винограда глюкоза находится и в других сладких плодах  и даже в разных частях растени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04920" y="4419720"/>
            <a:ext cx="857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а глюкоза и в животном мире: 0,1% ее находится в крови. Глюкоза разносится по всему телу и служит источником энергии для организма. Она также входит в состав сахарозы, лактозы, целлюлозы, крахма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10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4071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5"/>
          <p:cNvSpPr/>
          <p:nvPr/>
        </p:nvSpPr>
        <p:spPr>
          <a:xfrm>
            <a:off x="179280" y="189000"/>
            <a:ext cx="5256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стительном мире широко распространена фруктоза или фруктовый (плодовый) сахар. Фруктоза содержится в сладких плодах, меде. Извлекая из цветов  сладких плодов соки, пчелы приготавливают мед, который по химическому составу  представляет собой  в основном смесь глюкозы и фруктозы. Также фруктоза входит в состав сложных сахаров, например тростникового и свекловично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7" name="Picture 6" descr="47"/>
          <p:cNvPicPr/>
          <p:nvPr/>
        </p:nvPicPr>
        <p:blipFill>
          <a:blip r:embed="rId1"/>
          <a:stretch/>
        </p:blipFill>
        <p:spPr>
          <a:xfrm>
            <a:off x="5580000" y="260280"/>
            <a:ext cx="3095640" cy="26416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75491"/>
          <p:cNvPicPr/>
          <p:nvPr/>
        </p:nvPicPr>
        <p:blipFill>
          <a:blip r:embed="rId2"/>
          <a:stretch/>
        </p:blipFill>
        <p:spPr>
          <a:xfrm>
            <a:off x="5580000" y="3357720"/>
            <a:ext cx="280836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ЗНАЧЕНИЕ МОНОСАХАРИДОВ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0" y="12952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сахариды играют роль промежуточных продуктов в процессах дыхания и фотосинтеза, участвуют в синтезе нуклеиновых кислот, коферментов, АТФ и полисахаридов, служат источниками энергии, высвобождаемой при окислении в процессе дыхания. Производные моносахаридов – сахарные спирты, сахарные кислоты, дезоксисахара и аминосахара – имеют важное значение в процессе дыхания, а также используются при синтезе липидов,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ДН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угих макромолеку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Д И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сахариды имеют формул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ди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533520" y="472428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ар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юкоза + фрук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юкоза + галактоза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юкоза + глюкоза)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би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152280" y="1371600"/>
            <a:ext cx="8610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хариды - это сложные сахара, каждая молекула которых при гидролизе распадается на 2 молекулы моносахарид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они используются в качестве запасных питательных вещест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6781320" y="228600"/>
            <a:ext cx="175284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6" name="Picture 9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228600" y="228600"/>
            <a:ext cx="4370400" cy="26542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0" descr="http://www.college.ru/biology/course/content/javagifs/08010204.gif"/>
          <p:cNvPicPr/>
          <p:nvPr/>
        </p:nvPicPr>
        <p:blipFill>
          <a:blip r:embed="rId2"/>
          <a:stretch/>
        </p:blipFill>
        <p:spPr>
          <a:xfrm>
            <a:off x="4876920" y="1219320"/>
            <a:ext cx="4267080" cy="2590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28" name="Rectangle 12"/>
          <p:cNvSpPr/>
          <p:nvPr/>
        </p:nvSpPr>
        <p:spPr>
          <a:xfrm>
            <a:off x="1295280" y="31240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к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9" name="Picture 13" descr="http://www.college.ru/biology/course/content/javagifs/08010205.gif"/>
          <p:cNvPicPr/>
          <p:nvPr/>
        </p:nvPicPr>
        <p:blipFill>
          <a:blip r:embed="rId3"/>
          <a:stretch/>
        </p:blipFill>
        <p:spPr>
          <a:xfrm>
            <a:off x="228600" y="3962520"/>
            <a:ext cx="4267080" cy="2400120"/>
          </a:xfrm>
          <a:prstGeom prst="rect">
            <a:avLst/>
          </a:prstGeom>
          <a:ln w="0">
            <a:noFill/>
          </a:ln>
        </p:spPr>
      </p:pic>
      <p:sp>
        <p:nvSpPr>
          <p:cNvPr id="630" name="Line 15"/>
          <p:cNvSpPr/>
          <p:nvPr/>
        </p:nvSpPr>
        <p:spPr>
          <a:xfrm flipH="1">
            <a:off x="4723920" y="380880"/>
            <a:ext cx="17528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Line 16"/>
          <p:cNvSpPr/>
          <p:nvPr/>
        </p:nvSpPr>
        <p:spPr>
          <a:xfrm flipV="1">
            <a:off x="3352680" y="3200040"/>
            <a:ext cx="1295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17"/>
          <p:cNvSpPr/>
          <p:nvPr/>
        </p:nvSpPr>
        <p:spPr>
          <a:xfrm>
            <a:off x="6324480" y="457200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хар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Line 18"/>
          <p:cNvSpPr/>
          <p:nvPr/>
        </p:nvSpPr>
        <p:spPr>
          <a:xfrm flipH="1">
            <a:off x="4876920" y="4876920"/>
            <a:ext cx="1295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09:52:46Z</dcterms:created>
  <dc:creator>Василенков</dc:creator>
  <dc:description/>
  <dc:language>en-US</dc:language>
  <cp:lastModifiedBy>Admin</cp:lastModifiedBy>
  <dcterms:modified xsi:type="dcterms:W3CDTF">2012-01-08T16:36:12Z</dcterms:modified>
  <cp:revision>60</cp:revision>
  <dc:subject/>
  <dc:title> ПРЕЗЕНТАЦИЯ по химии</dc:title>
</cp:coreProperties>
</file>