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.jpeg" ContentType="image/jpeg"/>
  <Override PartName="/ppt/media/image7.png" ContentType="image/png"/>
  <Override PartName="/ppt/media/image13.jpeg" ContentType="image/jpe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6.wmf" ContentType="image/x-wmf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70F0D-E5EE-46B6-8368-3A4984F6AE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5D0FA-CE1A-4A82-8C98-BFF4E7E370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170D2-D0DA-4326-AD0B-A4CB1AA914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3C77E-5CE7-434D-BA71-004342F1D6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4A28F-5AC9-4E14-ACC6-B555675533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CCBCA-1EEC-4C7A-8466-0EC0F22C59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33987-1179-4553-83B3-4160A03428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A5FC-C304-4C5F-AB24-B2476B692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EB15-9445-409B-9AC0-38DEB5182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1D83-642E-425C-9BBB-824E41AD8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9E35-1C1C-4F1E-B2EB-7B8F9CF14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2FDEE-A888-4C9C-9A3A-95FBB4A3D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CD060-FD31-48F7-B6E9-C9BB2355C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52A90-0425-4A76-AF02-72141FC53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CA99A-0DD6-471D-8254-209E49614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F3C06-F8A8-4CF9-953A-F35BBF8A2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25915-E1AE-4800-987F-7BE2A3EBE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8DB9F-E2AF-48B8-A8E2-2E541E1E2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00F4-108D-414E-A2F4-E029AB84F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6F773-51D3-488D-AF8A-FDC64EA7A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A90F2-50C3-459B-B0E8-A596B8D8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569A7-E04A-4C06-B037-847BF9701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0C3D8-7958-47C1-B2AB-395C7E972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1D774-0935-4E4C-B7E1-3027BBF88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4258-040A-497D-B5B0-F829BE178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5F78-DE29-4BFE-A784-B086E992A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CDF9-8F4E-49F3-844B-7556AF49C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1935-81C9-449C-A921-E42235BBE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A9F1-0C5E-4BCB-B60F-B3417D8B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F917-B144-4B0D-97EB-3AEFDC311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ECC7-F5F3-430D-9039-FA77C51F8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0A27C-EBA1-4F61-A8AC-E6F60FC003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8A8E2-438F-4692-ABC2-D208CF04F7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ЕРМЕН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00720" y="1071720"/>
            <a:ext cx="446400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Ферменты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энзимы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то органические катализаторы белковой природы, которые ускоряют реакции, необходимые для функционирования живых организм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480px-Purine_Nucleoside_Phosphorylase"/>
          <p:cNvPicPr/>
          <p:nvPr/>
        </p:nvPicPr>
        <p:blipFill>
          <a:blip r:embed="rId1"/>
          <a:stretch/>
        </p:blipFill>
        <p:spPr>
          <a:xfrm>
            <a:off x="285840" y="1000080"/>
            <a:ext cx="3643200" cy="22575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enzymes"/>
          <p:cNvPicPr/>
          <p:nvPr/>
        </p:nvPicPr>
        <p:blipFill>
          <a:blip r:embed="rId2"/>
          <a:stretch/>
        </p:blipFill>
        <p:spPr>
          <a:xfrm>
            <a:off x="214200" y="3429000"/>
            <a:ext cx="3571920" cy="26431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332073450"/>
          <p:cNvPicPr/>
          <p:nvPr/>
        </p:nvPicPr>
        <p:blipFill>
          <a:blip r:embed="rId3"/>
          <a:stretch/>
        </p:blipFill>
        <p:spPr>
          <a:xfrm>
            <a:off x="4786200" y="4500720"/>
            <a:ext cx="372600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9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1C7D0-2857-4A52-A2DB-75E72B8029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Отличия ферментов от небиологических катализаторов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Удивительная эффективность ферментов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4"/>
          <p:cNvSpPr/>
          <p:nvPr/>
        </p:nvSpPr>
        <p:spPr>
          <a:xfrm>
            <a:off x="539640" y="126828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900000" y="3573360"/>
          <a:ext cx="7632720" cy="1965600"/>
        </p:xfrm>
        <a:graphic>
          <a:graphicData uri="http://schemas.openxmlformats.org/drawingml/2006/table">
            <a:tbl>
              <a:tblPr/>
              <a:tblGrid>
                <a:gridCol w="3996000"/>
                <a:gridCol w="3636720"/>
              </a:tblGrid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Фермент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Число оборотов</a:t>
                      </a:r>
                      <a:r>
                        <a:rPr b="1" lang="ru-RU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в </a:t>
                      </a:r>
                      <a:br>
                        <a:rPr sz="2100"/>
                      </a:br>
                      <a:r>
                        <a:rPr b="1" lang="ru-RU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1 мин при 37°С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>
                      <a:noFill/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Карбоангидраз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36 000 00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>
                      <a:noFill/>
                    </a:lnR>
                    <a:lnT w="13680">
                      <a:solidFill>
                        <a:srgbClr val="0033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1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1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1" lang="ru-RU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Амилаз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1 100 00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Фосфоглюкомутаз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99"/>
                      </a:solidFill>
                    </a:lnR>
                    <a:lnT>
                      <a:noFill/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1 24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Text Box 126"/>
          <p:cNvSpPr/>
          <p:nvPr/>
        </p:nvSpPr>
        <p:spPr>
          <a:xfrm>
            <a:off x="938160" y="2984400"/>
            <a:ext cx="650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 оборотов некоторых фермент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0498F-54C2-4AD6-A088-D1C5D52C2E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3399"/>
                </a:solidFill>
                <a:latin typeface="Arial"/>
              </a:rPr>
              <a:t>Коферменты и витамины</a:t>
            </a:r>
            <a:r>
              <a:rPr b="0" lang="ru-RU" sz="3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3"/>
          <p:cNvSpPr/>
          <p:nvPr/>
        </p:nvSpPr>
        <p:spPr>
          <a:xfrm>
            <a:off x="539640" y="112536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68360" y="1268280"/>
          <a:ext cx="8542440" cy="4846680"/>
        </p:xfrm>
        <a:graphic>
          <a:graphicData uri="http://schemas.openxmlformats.org/drawingml/2006/table">
            <a:tbl>
              <a:tblPr/>
              <a:tblGrid>
                <a:gridCol w="1871640"/>
                <a:gridCol w="3141720"/>
                <a:gridCol w="35290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Витам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Коферментная фор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Тип катализируемой реак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Водорастворимые витами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Тиамин (В</a:t>
                      </a:r>
                      <a:r>
                        <a:rPr b="1" lang="ru-RU" sz="1400" spc="-1" strike="noStrike" baseline="-30000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Тиаминпирофосф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Декарбоксилирование </a:t>
                      </a:r>
                      <a:r>
                        <a:rPr b="1" i="1" lang="en-US" sz="1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-кетокисло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Рибофлавин (В</a:t>
                      </a:r>
                      <a:r>
                        <a:rPr b="1" lang="ru-RU" sz="1400" spc="-1" strike="noStrike" baseline="-30000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Флавинмононуклеотид, флавинадениндинуклеоти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Окислительно-восстановительные реак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Никотиновая 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кислот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Никотинамидаденин-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динуклеотид,</a:t>
                      </a: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никотинамид</a:t>
                      </a: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адениндинуклеотидфосф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Окислительно-восстановительные реак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Пантотеновая кислот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Кофермент (коэнзим) 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Перенос ацильных груп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Пиридоксин (В</a:t>
                      </a:r>
                      <a:r>
                        <a:rPr b="1" lang="ru-RU" sz="1400" spc="-1" strike="noStrike" baseline="-30000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6</a:t>
                      </a: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Пиридоксальфосф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Перенос аминогруп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Биотин (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H</a:t>
                      </a: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Биотиц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Перенос СО</a:t>
                      </a:r>
                      <a:r>
                        <a:rPr b="1" lang="ru-RU" sz="1400" spc="-1" strike="noStrike" baseline="-30000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Фолиевая 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кисло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Тетрагидрофол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Перенос одноуглеродных груп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Витамин В</a:t>
                      </a:r>
                      <a:r>
                        <a:rPr b="1" lang="ru-RU" sz="1400" spc="-1" strike="noStrike" baseline="-30000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Дезоксиаденозилкобалам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Перенос связанного с углеродом атома водорода на соседний атом углер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Аскорбиновая кислота (С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Не извест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Реакции гидроксилир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7CF05-3355-4055-AF71-6F7CD0DFE4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3399"/>
                </a:solidFill>
                <a:latin typeface="Arial"/>
              </a:rPr>
              <a:t>Коферменты и витамины</a:t>
            </a:r>
            <a:r>
              <a:rPr b="0" lang="ru-RU" sz="3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"/>
          <p:cNvSpPr/>
          <p:nvPr/>
        </p:nvSpPr>
        <p:spPr>
          <a:xfrm>
            <a:off x="539640" y="112536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68360" y="1681200"/>
          <a:ext cx="8496360" cy="2212920"/>
        </p:xfrm>
        <a:graphic>
          <a:graphicData uri="http://schemas.openxmlformats.org/drawingml/2006/table">
            <a:tbl>
              <a:tblPr/>
              <a:tblGrid>
                <a:gridCol w="1582560"/>
                <a:gridCol w="3673440"/>
                <a:gridCol w="324036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Витам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Коферментная фор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Тип катализируемой реак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Жирорастворимые витами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Витамин 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Ретина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Зрительный проце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Витамин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1,25-Дигидроксихолекальциферо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Регуляция обмена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Витамин 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Не извест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Защита мембранных липид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Витамин 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Не извест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Реакции декарбоксилир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7"/>
          <p:cNvSpPr/>
          <p:nvPr/>
        </p:nvSpPr>
        <p:spPr>
          <a:xfrm>
            <a:off x="971640" y="981000"/>
            <a:ext cx="75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ловия действия фермент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900000" y="2276640"/>
            <a:ext cx="65516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мпература 30 – 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акция среды (р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збирательность дейст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щие свойств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3ed7"/>
                </a:solidFill>
                <a:latin typeface="Arial"/>
              </a:rPr>
              <a:t>способны к растворению в воде и образованию коллоидных растворов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3ed7"/>
                </a:solidFill>
                <a:latin typeface="Arial"/>
              </a:rPr>
              <a:t>увеличивают скорость реакци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3ed7"/>
                </a:solidFill>
                <a:latin typeface="Arial"/>
              </a:rPr>
              <a:t>не расходуются в реак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3ed7"/>
                </a:solidFill>
                <a:latin typeface="Arial"/>
              </a:rPr>
              <a:t>амфотерн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3ed7"/>
                </a:solidFill>
                <a:latin typeface="Arial"/>
              </a:rPr>
              <a:t>их присутствие не влияет на свойства продуктов реак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3ed7"/>
                </a:solidFill>
                <a:latin typeface="Arial"/>
              </a:rPr>
              <a:t>характерно протекание цветных реакци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3ed7"/>
                </a:solidFill>
                <a:latin typeface="Arial"/>
              </a:rPr>
              <a:t>изменяют энергию активации, при которой может произойти реакц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3ed7"/>
                </a:solidFill>
                <a:latin typeface="Arial"/>
              </a:rPr>
              <a:t>не изменяют сколько-нибудь значительно температуру, при которой происходит реакц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3ed7"/>
                </a:solidFill>
                <a:latin typeface="Arial"/>
              </a:rPr>
              <a:t>способны к денатурации и гидролиз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ецифические свойств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Сочетание высочайшей активности с соблюдением строгого ряда услов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Специфичность действия по принципу «ключ – замок» или «рука – перчатка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Стабильн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Обратимость действ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          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Е +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 ↔ ES → E + P</a:t>
            </a:r>
            <a:r>
              <a:rPr b="0" lang="ru-RU" sz="3200" spc="-1" strike="noStrike">
                <a:solidFill>
                  <a:srgbClr val="009900"/>
                </a:solidFill>
                <a:latin typeface="Arial"/>
              </a:rPr>
              <a:t>,г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Е – энзим;        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S – </a:t>
            </a: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субстрат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 – продукт реакци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ES – </a:t>
            </a: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фермент-субстратный комплек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ль ферментов в жизнедеятельности организм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3ed7"/>
                </a:solidFill>
                <a:latin typeface="Arial"/>
              </a:rPr>
              <a:t>Врожденные нарушения обмен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3ed7"/>
                </a:solidFill>
                <a:latin typeface="Arial"/>
              </a:rPr>
              <a:t>Взаимопревращения вещест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3ed7"/>
                </a:solidFill>
                <a:latin typeface="Arial"/>
              </a:rPr>
              <a:t>Биохимическая революц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3ed7"/>
                </a:solidFill>
                <a:latin typeface="Arial"/>
              </a:rPr>
              <a:t>Превращение энерг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3ed7"/>
                </a:solidFill>
                <a:latin typeface="Arial"/>
              </a:rPr>
              <a:t>Биосинтез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3ed7"/>
                </a:solidFill>
                <a:latin typeface="Arial"/>
              </a:rPr>
              <a:t>Фармаколог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3ed7"/>
                </a:solidFill>
                <a:latin typeface="Arial"/>
              </a:rPr>
              <a:t>Ультраструктура мембра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3ed7"/>
                </a:solidFill>
                <a:latin typeface="Arial"/>
              </a:rPr>
              <a:t>Генетический аппара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3ed7"/>
                </a:solidFill>
                <a:latin typeface="Arial"/>
              </a:rPr>
              <a:t>Пит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3ed7"/>
                </a:solidFill>
                <a:latin typeface="Arial"/>
              </a:rPr>
              <a:t>Клеточный метаболиз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3ed7"/>
                </a:solidFill>
                <a:latin typeface="Arial"/>
              </a:rPr>
              <a:t>Катализ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3ed7"/>
                </a:solidFill>
                <a:latin typeface="Arial"/>
              </a:rPr>
              <a:t>Физиологическая регуляц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3ed7"/>
                </a:solidFill>
                <a:latin typeface="Arial"/>
              </a:rPr>
              <a:t>Бактериальное брож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95342-525D-4C63-9DE8-84E854CE5E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Классификация энзимов – </a:t>
            </a:r>
            <a:br>
              <a:rPr sz="3400"/>
            </a:b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Е.С. (</a:t>
            </a:r>
            <a:r>
              <a:rPr b="1" lang="en-US" sz="3400" spc="-1" strike="noStrike">
                <a:solidFill>
                  <a:srgbClr val="000099"/>
                </a:solidFill>
                <a:latin typeface="Arial"/>
              </a:rPr>
              <a:t>Enzyme Classification</a:t>
            </a: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0" lang="ru-RU" sz="3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3"/>
          <p:cNvSpPr/>
          <p:nvPr/>
        </p:nvSpPr>
        <p:spPr>
          <a:xfrm>
            <a:off x="539640" y="141300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35" descr=""/>
          <p:cNvPicPr/>
          <p:nvPr/>
        </p:nvPicPr>
        <p:blipFill>
          <a:blip r:embed="rId1"/>
          <a:stretch/>
        </p:blipFill>
        <p:spPr>
          <a:xfrm>
            <a:off x="395280" y="1960560"/>
            <a:ext cx="849780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00244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ассификация фермен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28908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типу катализируемых реакций ферменты подразделяются н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 классов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гласно иерархической классификации ферментов. Классификация была предложена Международным союзом биохимии и молекулярной биологии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ждый класс содержит подкласс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img406"/>
          <p:cNvPicPr/>
          <p:nvPr/>
        </p:nvPicPr>
        <p:blipFill>
          <a:blip r:embed="rId1"/>
          <a:stretch/>
        </p:blipFill>
        <p:spPr>
          <a:xfrm>
            <a:off x="3429000" y="689040"/>
            <a:ext cx="5554800" cy="60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147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едицинское знач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42600" y="928440"/>
            <a:ext cx="56437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язь между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ерментами и наследственными болезня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мена веществ была впервые установлен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. Гэрродом в 1910-е г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Гэррод назвал заболевания, связанные с дефектами ферментов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врожденными ошибками метаболизм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происходит мутация в гене, кодирующем определенный фермент, может измениться аминокислотная последовательность фермента. При этом в результате большинства мутаций его каталитическая активность снижается или полностью пропадает. Если организм получает два таких мутантных гена (по одному от каждого из родителей), в организме перестает идти химическая реакция, которую катализирует данный фермент. Например, появлени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льбинос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вязано с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кращением выработки фермента тирозиназы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твечающего за одну из стадий синтез темного пигмента меланина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енилкетонур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вязан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пониженной или отсутствующей активностью фермента фенилаланин-4-гидроксилазы в печен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8" descr="46827_w640_h640_183707e36a3dafce6f1a6e0261"/>
          <p:cNvPicPr/>
          <p:nvPr/>
        </p:nvPicPr>
        <p:blipFill>
          <a:blip r:embed="rId1"/>
          <a:stretch/>
        </p:blipFill>
        <p:spPr>
          <a:xfrm>
            <a:off x="5786280" y="2571840"/>
            <a:ext cx="1571760" cy="328608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9"/>
          <p:cNvSpPr/>
          <p:nvPr/>
        </p:nvSpPr>
        <p:spPr>
          <a:xfrm>
            <a:off x="395280" y="6237360"/>
            <a:ext cx="266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6" descr="ferment"/>
          <p:cNvPicPr/>
          <p:nvPr/>
        </p:nvPicPr>
        <p:blipFill>
          <a:blip r:embed="rId2"/>
          <a:stretch/>
        </p:blipFill>
        <p:spPr>
          <a:xfrm>
            <a:off x="6238800" y="714240"/>
            <a:ext cx="2505240" cy="15717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profil_krf"/>
          <p:cNvPicPr/>
          <p:nvPr/>
        </p:nvPicPr>
        <p:blipFill>
          <a:blip r:embed="rId3"/>
          <a:stretch/>
        </p:blipFill>
        <p:spPr>
          <a:xfrm>
            <a:off x="7221600" y="2403360"/>
            <a:ext cx="1817640" cy="1658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medicine-cure-facial-blushi"/>
          <p:cNvPicPr/>
          <p:nvPr/>
        </p:nvPicPr>
        <p:blipFill>
          <a:blip r:embed="rId4"/>
          <a:stretch/>
        </p:blipFill>
        <p:spPr>
          <a:xfrm>
            <a:off x="7027920" y="4214880"/>
            <a:ext cx="197316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тория изучен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356840"/>
            <a:ext cx="836280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ермин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фермен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редложен в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XVII веке химиком ван Гельмонтом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 обсуждении механизмов пищевар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кон. ХVIII — нач. XIX вв. уже было известно, что мясо переваривается желудочным соком, а крахмал превращается в сахар под действием слюны. Однако механизм этих явлений был неизвесте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 XIX в. Луи Пастер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учая превращение углеводов в этиловый спирт под действием дрожжей, пришел к выводу, что этот процесс (брожение) катализируется некой жизненной силой, находящейся в дрожжевых клетк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олее ста лет назад термины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фермен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энзи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отражали различные точки зрения в теоретическом споре Л. Пастера с одной стороны, и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. Бертло и Ю. Либих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— с другой, о природе спиртового брожения. Собственно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ферментам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(от лат. 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fermentu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— закваска) называли «организованные ферменты» (то есть сами живые микроорганизмы), а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ермин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энзим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(от греч.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ἐν-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 — в- и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ζύμη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 — дрожжи, закваска) предложен в 1876 году В. Кюн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для «неорганизованных ферментов», секретируемых клетками, например, в желудок (пепсин) или кишечник (трипсин, амилаза). Через два года после смерти Л. Пастера в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897 году Э. Бухнер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убликовал работу «Спиртовое брожение без дрожжевых клеток», в которой экспериментально показал, что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есклеточный дрожжевой сок осуществляет спиртовое брожение так же, как и неразрушенные дрожжевые клетки. В 1907 году за эту работу он был удостоен Нобелевской премии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первые высокоочищенный кристаллический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ермент (уреаза) был выделен в 1926 году Дж. Самнеро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В течение последующих 10 лет было выделено еще несколько ферментов, и белковая природа ферментов была окончательно доказа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ейчас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имикам известно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олее 2000 ферменто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Все они обладают рядом специфических свойств, отличающих их от неорганических катализато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7380360" y="645336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Оглавл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-100080"/>
            <a:ext cx="763272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актическое использо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5" descr="то что надо"/>
          <p:cNvPicPr/>
          <p:nvPr/>
        </p:nvPicPr>
        <p:blipFill>
          <a:blip r:embed="rId1"/>
          <a:stretch/>
        </p:blipFill>
        <p:spPr>
          <a:xfrm>
            <a:off x="4572000" y="785880"/>
            <a:ext cx="4429080" cy="56149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то что надо 1"/>
          <p:cNvPicPr/>
          <p:nvPr/>
        </p:nvPicPr>
        <p:blipFill>
          <a:blip r:embed="rId2"/>
          <a:stretch/>
        </p:blipFill>
        <p:spPr>
          <a:xfrm>
            <a:off x="166680" y="785880"/>
            <a:ext cx="4119480" cy="557208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10"/>
          <p:cNvSpPr/>
          <p:nvPr/>
        </p:nvSpPr>
        <p:spPr>
          <a:xfrm>
            <a:off x="2071800" y="500040"/>
            <a:ext cx="246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571680" y="6093000"/>
            <a:ext cx="5713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9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равнение неорганических катализаторов  фермент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57200" y="1219320"/>
          <a:ext cx="8229600" cy="5646600"/>
        </p:xfrm>
        <a:graphic>
          <a:graphicData uri="http://schemas.openxmlformats.org/drawingml/2006/table">
            <a:tbl>
              <a:tblPr/>
              <a:tblGrid>
                <a:gridCol w="2362320"/>
                <a:gridCol w="3047760"/>
                <a:gridCol w="2819520"/>
              </a:tblGrid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знаки           сравнен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рганические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тализатор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рмент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Химичес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р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Селектив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Оптимум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Интервал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ерату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Изменение структуры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t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ходе    реак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7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Увеличение скорости реакци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9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равнение неорганических катализаторов  фермент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1071720"/>
          <a:ext cx="8229600" cy="5665680"/>
        </p:xfrm>
        <a:graphic>
          <a:graphicData uri="http://schemas.openxmlformats.org/drawingml/2006/table">
            <a:tbl>
              <a:tblPr/>
              <a:tblGrid>
                <a:gridCol w="2362320"/>
                <a:gridCol w="3047760"/>
                <a:gridCol w="2819520"/>
              </a:tblGrid>
              <a:tr h="840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знаки           сравнен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рганические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тализатор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рмент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Химичес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р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зкомолекулярные вещества, образованные 1 или нескольки-ми элементам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ки – высокомолекуляр-ные полиме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Селектив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зкая, универсальный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t – Pt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коряет множ. реакци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окая. На каждую р-цию нужен свой фермен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Оптимум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льнокислая или щелоч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большой интервал, у кажд. органа – сво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Интервал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ерату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чень широки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 – 42 градуса, затем денатурируют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Изменение структуры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t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ходе    реак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меняется незначительно, или не изменяется вовс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льно изменяются и восстанавливаются в исходную структуру по окончании реакци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Увеличение скорости реакци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100 – 1000000 ра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10 в 8 степени до 10 в 12 степени раз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5"/>
          <p:cNvSpPr txBox="1"/>
          <p:nvPr/>
        </p:nvSpPr>
        <p:spPr>
          <a:xfrm>
            <a:off x="2556000" y="1052640"/>
            <a:ext cx="381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Фермент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4211640" y="3129120"/>
            <a:ext cx="4392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вухкомпонен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лки + производ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тами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1"/>
          <p:cNvSpPr/>
          <p:nvPr/>
        </p:nvSpPr>
        <p:spPr>
          <a:xfrm flipH="1">
            <a:off x="2410920" y="2276640"/>
            <a:ext cx="107964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2"/>
          <p:cNvSpPr/>
          <p:nvPr/>
        </p:nvSpPr>
        <p:spPr>
          <a:xfrm>
            <a:off x="5149800" y="2276640"/>
            <a:ext cx="93492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6"/>
          <p:cNvSpPr/>
          <p:nvPr/>
        </p:nvSpPr>
        <p:spPr>
          <a:xfrm>
            <a:off x="500040" y="2786040"/>
            <a:ext cx="3786120" cy="25002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днокомпонен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л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7"/>
          <p:cNvSpPr/>
          <p:nvPr/>
        </p:nvSpPr>
        <p:spPr>
          <a:xfrm>
            <a:off x="4500720" y="2857680"/>
            <a:ext cx="4143240" cy="25002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вухкомпонен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лки + производ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тами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23"/>
          <p:cNvGrpSpPr/>
          <p:nvPr/>
        </p:nvGrpSpPr>
        <p:grpSpPr>
          <a:xfrm>
            <a:off x="0" y="1447920"/>
            <a:ext cx="8153280" cy="5410080"/>
            <a:chOff x="0" y="1447920"/>
            <a:chExt cx="8153280" cy="5410080"/>
          </a:xfrm>
        </p:grpSpPr>
        <p:sp>
          <p:nvSpPr>
            <p:cNvPr id="110" name="AutoShape 24"/>
            <p:cNvSpPr/>
            <p:nvPr/>
          </p:nvSpPr>
          <p:spPr>
            <a:xfrm>
              <a:off x="0" y="1447920"/>
              <a:ext cx="8153280" cy="54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25"/>
            <p:cNvSpPr/>
            <p:nvPr/>
          </p:nvSpPr>
          <p:spPr>
            <a:xfrm>
              <a:off x="1892160" y="1825200"/>
              <a:ext cx="3933720" cy="1006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ФЕРМЕНТ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26"/>
            <p:cNvSpPr/>
            <p:nvPr/>
          </p:nvSpPr>
          <p:spPr>
            <a:xfrm flipH="1">
              <a:off x="2183760" y="2832120"/>
              <a:ext cx="873000" cy="62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27"/>
            <p:cNvSpPr/>
            <p:nvPr/>
          </p:nvSpPr>
          <p:spPr>
            <a:xfrm>
              <a:off x="4513680" y="2832120"/>
              <a:ext cx="582840" cy="62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28"/>
            <p:cNvSpPr/>
            <p:nvPr/>
          </p:nvSpPr>
          <p:spPr>
            <a:xfrm>
              <a:off x="1019160" y="3460680"/>
              <a:ext cx="2037960" cy="75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Arial"/>
                </a:rPr>
                <a:t>ПРОТЕИН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29"/>
            <p:cNvSpPr/>
            <p:nvPr/>
          </p:nvSpPr>
          <p:spPr>
            <a:xfrm>
              <a:off x="4076640" y="3460680"/>
              <a:ext cx="2911320" cy="75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Arial"/>
                </a:rPr>
                <a:t>ПРОТЕИД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30"/>
            <p:cNvSpPr/>
            <p:nvPr/>
          </p:nvSpPr>
          <p:spPr>
            <a:xfrm>
              <a:off x="5677560" y="4216320"/>
              <a:ext cx="582840" cy="62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31"/>
            <p:cNvSpPr/>
            <p:nvPr/>
          </p:nvSpPr>
          <p:spPr>
            <a:xfrm flipH="1">
              <a:off x="3785040" y="4216320"/>
              <a:ext cx="873000" cy="62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32"/>
            <p:cNvSpPr/>
            <p:nvPr/>
          </p:nvSpPr>
          <p:spPr>
            <a:xfrm>
              <a:off x="2475360" y="4844880"/>
              <a:ext cx="2183040" cy="1132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Белковая ча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9900"/>
                  </a:solidFill>
                  <a:latin typeface="Arial"/>
                </a:rPr>
                <a:t>(апрофермент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33"/>
            <p:cNvSpPr/>
            <p:nvPr/>
          </p:nvSpPr>
          <p:spPr>
            <a:xfrm>
              <a:off x="5532840" y="4844880"/>
              <a:ext cx="2183040" cy="1132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Небелковая ча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9900"/>
                  </a:solidFill>
                  <a:latin typeface="Arial"/>
                </a:rPr>
                <a:t>(кофермент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5438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роение фермент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16BF8-689F-433A-A1EA-9A8A518720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Отличия ферментов от небиологических катализаторов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4"/>
          <p:cNvSpPr/>
          <p:nvPr/>
        </p:nvSpPr>
        <p:spPr>
          <a:xfrm>
            <a:off x="539640" y="126828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611280" y="1509840"/>
            <a:ext cx="8281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авные ферменты: белковая часть обеспечивает связывание субстрата, а катализ осуществляют небелковые (мономерные) соединения, называемые </a:t>
            </a:r>
            <a:r>
              <a:rPr b="0" i="1" lang="ru-RU" sz="2800" spc="-1" strike="noStrike">
                <a:solidFill>
                  <a:srgbClr val="ff3300"/>
                </a:solidFill>
                <a:latin typeface="Arial"/>
              </a:rPr>
              <a:t>кофермент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офактором, простетической группо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. Белковая часть такого фермента называется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апофермент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а активный фермент (комплекс апофермента и кофермента) —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холофермент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B16A2-7A4E-4E3F-A755-D1DB78A110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3399"/>
                </a:solidFill>
                <a:latin typeface="Arial"/>
              </a:rPr>
              <a:t>Коферменты и витамины</a:t>
            </a:r>
            <a:r>
              <a:rPr b="0" lang="ru-RU" sz="3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3"/>
          <p:cNvSpPr/>
          <p:nvPr/>
        </p:nvSpPr>
        <p:spPr>
          <a:xfrm>
            <a:off x="539640" y="112536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611280" y="1341360"/>
            <a:ext cx="8281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едует выделить отдельно группу коферментов, т.е. тех соединений, которые образованы из соответствующих витаминов или синтезированы самостоятельно данным организмом для осуществления того или иного химического процесса в живой клет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Object 2"/>
          <p:cNvGraphicFramePr/>
          <p:nvPr/>
        </p:nvGraphicFramePr>
        <p:xfrm>
          <a:off x="179280" y="4724280"/>
          <a:ext cx="8906040" cy="165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4724280"/>
                    <a:ext cx="8906040" cy="16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A9482-6965-4D1E-BF69-E82E6C680E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Кинетика ферментативных реакций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3"/>
          <p:cNvSpPr/>
          <p:nvPr/>
        </p:nvSpPr>
        <p:spPr>
          <a:xfrm>
            <a:off x="539640" y="90792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468360" y="958680"/>
            <a:ext cx="8280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личество фермента можно определить по его активнос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5"/>
          <p:cNvSpPr/>
          <p:nvPr/>
        </p:nvSpPr>
        <p:spPr>
          <a:xfrm>
            <a:off x="468360" y="2223360"/>
            <a:ext cx="8424720" cy="35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За единицу активности фермента принимается такое количество фермента, которое катализирует превращение 1 мкмоля субстрата (1 мкмоль = 10–6 моля) в 1 мин при 25°С в оптимальных условиях действия фермента.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3300"/>
                </a:solidFill>
                <a:latin typeface="Arial"/>
              </a:rPr>
              <a:t>Удельной активностью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называется число единиц ферментативной активности в расчете на 1 мг белк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3T21:15:36Z</dcterms:created>
  <dc:creator>Ник Мартинович</dc:creator>
  <dc:description/>
  <dc:language>en-US</dc:language>
  <cp:lastModifiedBy>Admin</cp:lastModifiedBy>
  <dcterms:modified xsi:type="dcterms:W3CDTF">2012-02-09T17:21:09Z</dcterms:modified>
  <cp:revision>18</cp:revision>
  <dc:subject/>
  <dc:title>Слайд 1</dc:title>
</cp:coreProperties>
</file>