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png" ContentType="image/png"/>
  <Override PartName="/ppt/media/image25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8.wmf" ContentType="image/x-wmf"/>
  <Override PartName="/ppt/media/image16.wmf" ContentType="image/x-wmf"/>
  <Override PartName="/ppt/media/image8.png" ContentType="image/png"/>
  <Override PartName="/ppt/media/image41.wmf" ContentType="image/x-wmf"/>
  <Override PartName="/ppt/media/image31.wmf" ContentType="image/x-wmf"/>
  <Override PartName="/ppt/media/image35.wmf" ContentType="image/x-wmf"/>
  <Override PartName="/ppt/media/image30.wmf" ContentType="image/x-wmf"/>
  <Override PartName="/ppt/media/image36.wmf" ContentType="image/x-wmf"/>
  <Override PartName="/ppt/media/image47.jpeg" ContentType="image/jpeg"/>
  <Override PartName="/ppt/media/image12.wmf" ContentType="image/x-wmf"/>
  <Override PartName="/ppt/media/image37.wmf" ContentType="image/x-wmf"/>
  <Override PartName="/ppt/media/image42.png" ContentType="image/png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6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43.jpeg" ContentType="image/jpeg"/>
  <Override PartName="/ppt/media/image5.png" ContentType="image/png"/>
  <Override PartName="/ppt/media/image4.jpeg" ContentType="image/jpeg"/>
  <Override PartName="/ppt/media/image38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0DF-1CA4-47CE-9F74-0AE3BF49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999-614C-4D41-B27D-052C5FCB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A26-112D-4543-87BD-8111284B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D37-2B4D-4240-9C91-F30DCF5D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7B14-AD6A-4CF0-8902-6AA6C272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7457-69D4-415C-9169-915D6E93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EFC4-90DD-4796-8D19-AA250657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2A4F-89AB-4E90-9C52-4344B8CB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20C1-3C03-4074-8553-FF3BF65C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6BAA-A9DC-4FA5-B639-651DE7CD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F5BC-2D4F-48A5-9578-52F55DFA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342-5115-4DBB-820F-DD698EFB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1BDC-4123-4AE5-981F-2BB02388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2044-6E34-4792-B318-783CFA1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5C56-4304-4B57-9C49-C213DB6B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9576-5EDA-4931-8E4C-2F70F56B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0E18-7133-4FEA-8A6A-3F449178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4B449-F1BC-4D6E-BF45-4B70A07A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E474-2B05-4F55-A685-484FFCDF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6E79-1138-4C18-BB66-F509FDED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779AD-4229-4887-94E5-622B6F00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BEAB-586A-47C8-9969-09A4E128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793-7CEE-4B3C-BAB9-CFD3C129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9B6E9-3EE4-4E6E-944B-1482F18E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F41E-35C2-448E-A147-619C5F3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77A9-1F11-4E54-AF4A-417B8E85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E3F1-8A7F-4013-98D3-2F7E4F7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E7D4-E568-4FAD-84FF-A1D402A5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74627-D608-420B-89D8-1B487A45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16348-98B1-4A6D-A2E9-B4492958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FC675-136C-48E3-87D3-1762E124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DA50-1B20-4B2C-A07A-693E001F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50DBD-8F59-4642-AB84-33291DD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39E-D5E2-4FF7-9AFE-C9AF0DD9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1CA11-DE6C-4AB2-BC05-60C4A66C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D72E-0146-4AB2-9CC4-3A9F6684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9B043-CEC6-4C59-9112-C9687A03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7C2EF-CEAB-4C4D-A5D1-31B91169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78DA1-3B18-4022-BB83-870046A6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A6D1-DF0B-4E7D-B372-28890EA0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2FFB-B5E0-46E3-9DC9-A242613E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C74D4-7EBC-42D8-8823-55D22525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8285-1184-4016-90D1-9C4D9B4C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F8F-585F-444B-9421-2F74924A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940-57D6-4A0C-AE6C-123A938A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97D-A21E-45CA-ABA3-A840E7CF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BD4-9592-436B-933A-46B02D56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D74-08EA-4226-B889-63118C6F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1DA2-836F-48A8-85D4-B1E60C161F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B387-414B-4EC0-89B4-7DABCDDB449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CF40-21B9-4163-9931-E76F27665E3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021B-4EFC-4B2A-BECF-3A735067D0C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9.wmf"/><Relationship Id="rId2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pn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21" descr=""/>
          <p:cNvPicPr/>
          <p:nvPr/>
        </p:nvPicPr>
        <p:blipFill>
          <a:blip r:embed="rId2"/>
          <a:stretch/>
        </p:blipFill>
        <p:spPr>
          <a:xfrm>
            <a:off x="-55440" y="1468440"/>
            <a:ext cx="9169200" cy="36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216000" y="838080"/>
            <a:ext cx="8699400" cy="510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ы 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три  равноценные  форм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Object 8"/>
          <p:cNvGraphicFramePr/>
          <p:nvPr/>
        </p:nvGraphicFramePr>
        <p:xfrm>
          <a:off x="216000" y="1373040"/>
          <a:ext cx="869940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73040"/>
                    <a:ext cx="8699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9"/>
          <p:cNvSpPr/>
          <p:nvPr/>
        </p:nvSpPr>
        <p:spPr>
          <a:xfrm>
            <a:off x="216000" y="3828960"/>
            <a:ext cx="8686800" cy="188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т  в  состав  более  50  ферментов,  участвуют  в  процессах  ами-нокислотного  синтеза  и  метаболизма,  в  фосфорилировании  углево-дов  и  метаболизме жирных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о  применяются  в  медицине  при  лечении  некоторых  кожных  и  неврологических  заболеваний,  при  хроническом  гепатите,  в  гинеколо-гии,  гематологии  и  фтизиат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16000" y="5807160"/>
            <a:ext cx="8699400" cy="916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дерматитный фактор. Основными источниками являются хлеб, картофель, горох, фасоль, мясо, печень, почки и другие продукты. Синтезируется микрофлорой кишечника челове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819520" y="71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42920" y="4832280"/>
            <a:ext cx="8848800" cy="11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вует  в  синтезе  аминокислот,  пуриновых  и  пиримидиновых  оснований,  нуклеиновых  кислот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медицине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применяют  для  лечения  болезней  кроветворной  системы,  при  злокачественных  анемиях  и  лучевой  болез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Object 11"/>
          <p:cNvGraphicFramePr/>
          <p:nvPr/>
        </p:nvGraphicFramePr>
        <p:xfrm>
          <a:off x="142920" y="622440"/>
          <a:ext cx="8848800" cy="41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22440"/>
                    <a:ext cx="8848800" cy="41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"/>
          <p:cNvSpPr/>
          <p:nvPr/>
        </p:nvSpPr>
        <p:spPr>
          <a:xfrm>
            <a:off x="142920" y="5973840"/>
            <a:ext cx="8839080" cy="833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ми источниками являются зелёные листья, дрожжи, мясо, печень, почки и другие продукты. Синтезируется микрофлорой кишечника человека. Суточная  потребность – около  2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2819520" y="228600"/>
            <a:ext cx="374328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витамины В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16000" y="990720"/>
            <a:ext cx="8686800" cy="136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лечении  некоторых  злокачественных  опухолей  (лейкозов,  лейкемий)  для  угнетения  биосинтеза  нуклеиновых  оснований  применяют  антивитамины 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антагонисты  фолиевой  кислоты. Кроме того, эти вещества проявляют иммуностимулирующую, цитотоксичную, противоартритную актив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216000" y="2666880"/>
          <a:ext cx="8699400" cy="18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2666880"/>
                    <a:ext cx="86994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2920" y="5707080"/>
            <a:ext cx="8686800" cy="108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медицине:  в  гематологии  -  применяют  для  лечения  хронических  анемий  и  болезней  кроветворной  системы;  в  неврологии  -   при полиневритах,  рассеянном  склерозе,  радикулитах;  в  дерматологии;  для  нормализации  липидного  обмена. Потребность – менее 0.01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Object 8"/>
          <p:cNvGraphicFramePr/>
          <p:nvPr/>
        </p:nvGraphicFramePr>
        <p:xfrm>
          <a:off x="142920" y="762120"/>
          <a:ext cx="8696160" cy="49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69616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AutoShape 9"/>
          <p:cNvSpPr/>
          <p:nvPr/>
        </p:nvSpPr>
        <p:spPr>
          <a:xfrm>
            <a:off x="1116000" y="1557360"/>
            <a:ext cx="1600200" cy="15238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6012000" y="865080"/>
            <a:ext cx="3132000" cy="2165400"/>
            <a:chOff x="6012000" y="865080"/>
            <a:chExt cx="3132000" cy="2165400"/>
          </a:xfrm>
        </p:grpSpPr>
        <p:pic>
          <p:nvPicPr>
            <p:cNvPr id="269" name="Picture 9" descr="Pseudomonas_aeruginosa1"/>
            <p:cNvPicPr/>
            <p:nvPr/>
          </p:nvPicPr>
          <p:blipFill>
            <a:blip r:embed="rId4"/>
            <a:stretch/>
          </p:blipFill>
          <p:spPr>
            <a:xfrm>
              <a:off x="6012000" y="865080"/>
              <a:ext cx="3132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0"/>
            <p:cNvSpPr/>
            <p:nvPr/>
          </p:nvSpPr>
          <p:spPr>
            <a:xfrm>
              <a:off x="6012000" y="2205000"/>
              <a:ext cx="230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aerugino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6084720" y="3933720"/>
            <a:ext cx="2340000" cy="2016000"/>
            <a:chOff x="6084720" y="3933720"/>
            <a:chExt cx="2340000" cy="2016000"/>
          </a:xfrm>
        </p:grpSpPr>
        <p:pic>
          <p:nvPicPr>
            <p:cNvPr id="272" name="Picture 12" descr="pseudomonas2"/>
            <p:cNvPicPr/>
            <p:nvPr/>
          </p:nvPicPr>
          <p:blipFill>
            <a:blip r:embed="rId5"/>
            <a:stretch/>
          </p:blipFill>
          <p:spPr>
            <a:xfrm>
              <a:off x="6084720" y="3933720"/>
              <a:ext cx="2340000" cy="201600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273" name="Text Box 13"/>
            <p:cNvSpPr/>
            <p:nvPr/>
          </p:nvSpPr>
          <p:spPr>
            <a:xfrm>
              <a:off x="6192720" y="5518080"/>
              <a:ext cx="2232000" cy="429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21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4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9" nodeType="afterEffect" fill="hold" presetClass="exit" presetID="22" presetSubtype="4">
                                  <p:stCondLst>
                                    <p:cond delay="7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2" presetSubtype="1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3564000" y="189000"/>
            <a:ext cx="23050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Object 6"/>
          <p:cNvGraphicFramePr/>
          <p:nvPr/>
        </p:nvGraphicFramePr>
        <p:xfrm>
          <a:off x="399960" y="838080"/>
          <a:ext cx="83725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838080"/>
                    <a:ext cx="83725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7"/>
          <p:cNvSpPr/>
          <p:nvPr/>
        </p:nvSpPr>
        <p:spPr>
          <a:xfrm>
            <a:off x="395280" y="3201840"/>
            <a:ext cx="836784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  витамина  С:  лимон,  капуста,  сладкий  перец,  другие  фрукты  и  овощи.  У большинства  животных  может  синтезироваться  в  организме.  Суточная  потребность  -  25-75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95280" y="4365720"/>
            <a:ext cx="8367840" cy="1282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 для  лечения  цинги,  геморрагических  диатезов,  крово-течениях,  ряда  инфекционных  и  иммунных  заболеваний,  для  нор-мализации  липидного  обмена  при  атеросклерозе,  при усиленном физическом и умственном  напряжении, простуде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2916360" y="189000"/>
            <a:ext cx="3600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324000" y="5300640"/>
            <a:ext cx="8515080" cy="1191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рорастворимый. Антирахитный витамин, его недостаток  в организме вызывает  рахит.  В  организме  человека  регулирует  всасывание  кальция  в  кишечнике  и  общие  процессы  метаболизма  с  участием  кальция. Суточная потребность – 0.01-0.03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8"/>
          <p:cNvGraphicFramePr/>
          <p:nvPr/>
        </p:nvGraphicFramePr>
        <p:xfrm>
          <a:off x="324000" y="836640"/>
          <a:ext cx="8515080" cy="42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836640"/>
                    <a:ext cx="851508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2916360" y="189000"/>
            <a:ext cx="360036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витамин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Object 7"/>
          <p:cNvGraphicFramePr/>
          <p:nvPr/>
        </p:nvGraphicFramePr>
        <p:xfrm>
          <a:off x="228600" y="1114560"/>
          <a:ext cx="8686800" cy="46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14560"/>
                    <a:ext cx="86868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2895480" y="71280"/>
            <a:ext cx="3600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216000" y="5029200"/>
            <a:ext cx="8699400" cy="173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терильный или витамин размножения. У  животных и человека  недостаток витамина Е приводит к бесплодию, к поражению  сердечной  мышцы,  сосудистой  и  нервной  систем.  Работает  как  антиоксидант. Жирорастворимы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 потребность  -  10 - 25  мг, иногда – до 5 мг. Источник  витамина  Е:  зерна  пшеницы  и  риса,  растительные  масла,  салат,  шпина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Object 11"/>
          <p:cNvGraphicFramePr/>
          <p:nvPr/>
        </p:nvGraphicFramePr>
        <p:xfrm>
          <a:off x="216000" y="650880"/>
          <a:ext cx="8699400" cy="43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650880"/>
                    <a:ext cx="86994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6" presetSubtype="2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3"/>
          <p:cNvSpPr/>
          <p:nvPr/>
        </p:nvSpPr>
        <p:spPr>
          <a:xfrm>
            <a:off x="3492360" y="189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24000" y="4941720"/>
            <a:ext cx="8424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интезируются в организме человека и являются для него незаменимыми (необходимы  для построения  клеточных  мембран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ко, входят в состав тканей, поэтому часто об этих кислотах говорят как о витаминоподобных веществ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4000" y="907920"/>
            <a:ext cx="8439120" cy="6426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е  название  ненасыщенных  жирных  кислот  -  олеиновой,  линолевой,  линоленовой  и  арахидоновой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Object 8"/>
          <p:cNvGraphicFramePr/>
          <p:nvPr/>
        </p:nvGraphicFramePr>
        <p:xfrm>
          <a:off x="324000" y="1625760"/>
          <a:ext cx="8439120" cy="32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25760"/>
                    <a:ext cx="843912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3"/>
          <p:cNvSpPr/>
          <p:nvPr/>
        </p:nvSpPr>
        <p:spPr>
          <a:xfrm>
            <a:off x="3492360" y="108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42920" y="4648320"/>
            <a:ext cx="877248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. Недостаток  витамина  приводит  к  депигментации  кожи, дерматитам (антисеборейный фактор),  торможению  роста,  нерв-ным  расстройствам, поражению ногтей, анорексии и анемии. Суточная  потребность  -  0.1 - 0.3  мг. Белок авидин – антивитамин 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142920" y="59436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Много – 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еч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ч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моло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жел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ц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ртофе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лу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том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шпин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Object 12"/>
          <p:cNvGraphicFramePr/>
          <p:nvPr/>
        </p:nvGraphicFramePr>
        <p:xfrm>
          <a:off x="142920" y="762120"/>
          <a:ext cx="8763120" cy="32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76312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13"/>
          <p:cNvSpPr/>
          <p:nvPr/>
        </p:nvSpPr>
        <p:spPr>
          <a:xfrm>
            <a:off x="142920" y="4191120"/>
            <a:ext cx="8772480" cy="40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вует в ферментативных реакция карбоксилирования (перенос С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564000" y="115920"/>
            <a:ext cx="2087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836640"/>
            <a:ext cx="8642160" cy="2319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dd9"/>
                </a:solidFill>
                <a:uFillTx/>
                <a:latin typeface="Arial"/>
              </a:rPr>
              <a:t>Витам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органическое вещество, образующееся в животном организме или поступающее с пищей в очень незначительных количествах, но абсолютно необходимое для нормального обмена веществ и жизнедеятельности. Многие витамины являются коферментами или предшественниками коферментов, в составе которых они участвуют в различных ферментативных реакциях. Обычно первоисточником витаминов служат пищевые растения или некоторые низшие микроорганизм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50920" y="3357720"/>
            <a:ext cx="8642160" cy="20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8d1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о более 20 групп различных витаминов, которые различаются по своему физиологическому действию. Различают </a:t>
            </a:r>
            <a:r>
              <a:rPr b="1" i="1" lang="ru-RU" sz="1800" spc="-1" strike="noStrike">
                <a:solidFill>
                  <a:srgbClr val="009dd9"/>
                </a:solidFill>
                <a:latin typeface="Arial"/>
              </a:rPr>
              <a:t>вод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PP и C) и </a:t>
            </a:r>
            <a:r>
              <a:rPr b="1" i="1" lang="ru-RU" sz="1800" spc="-1" strike="noStrike">
                <a:solidFill>
                  <a:srgbClr val="009dd9"/>
                </a:solidFill>
                <a:latin typeface="Arial"/>
              </a:rPr>
              <a:t>жир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итамины (A, D, E, K). Выделяют также группу </a:t>
            </a:r>
            <a:r>
              <a:rPr b="1" i="1" lang="ru-RU" sz="1800" spc="-1" strike="noStrike">
                <a:solidFill>
                  <a:srgbClr val="009dd9"/>
                </a:solidFill>
                <a:latin typeface="Arial"/>
              </a:rPr>
              <a:t>витаминоподобных вещест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похожими физиологическими функциями. К таким веществам относят некоторые флавоноиды, липоевую, оротовую и пангамовую кислоты, холин, инозит (инозитол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2514600" y="18900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42920" y="4572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рорастворимый. Недостаток  витамина  приводит  к  нарушению  целостности  стенок  кровеносных  сосудов,  подкожным  и  внутримышечным  кровотечениям.  Суточная  потребность  -  1 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42920" y="83808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ы коагуляции крови (антигеморрагический фактор), необходимы для синтеза протромбина в печени. Протромбин – гликопротеид, участвующий в образовании протеолитического фер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Object 9"/>
          <p:cNvGraphicFramePr/>
          <p:nvPr/>
        </p:nvGraphicFramePr>
        <p:xfrm>
          <a:off x="685800" y="1828800"/>
          <a:ext cx="7772400" cy="26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28800"/>
                    <a:ext cx="77724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10"/>
          <p:cNvSpPr/>
          <p:nvPr/>
        </p:nvSpPr>
        <p:spPr>
          <a:xfrm>
            <a:off x="142920" y="5556240"/>
            <a:ext cx="8848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Филлохинона много в разных видах капусты, салат-латуке, спарже, растительных маслах. Мена-хинонов много в продуктах ферментативного брожения, например, в сыре Камамбер (600 нг/г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,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9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7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6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500"/>
                            </p:stCondLst>
                            <p:childTnLst>
                              <p:par>
                                <p:cTn id="360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1371600" y="152280"/>
            <a:ext cx="6324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нтетические аналоги витамина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42920" y="5943600"/>
            <a:ext cx="876312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меняют  при  инфаркте  миокарда  и  тромбофлебитах,  когда  происходит  образование  тромбов  в  сосудах  и повышается  свертываемость  кров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42920" y="29718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адион считается провитамином К. Аналоги витамина К применяются при угрозе возникновения кровотечений и кровоизлия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Object 9"/>
          <p:cNvGraphicFramePr/>
          <p:nvPr/>
        </p:nvGraphicFramePr>
        <p:xfrm>
          <a:off x="1219320" y="762120"/>
          <a:ext cx="6605640" cy="20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762120"/>
                    <a:ext cx="660564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 Box 10"/>
          <p:cNvSpPr/>
          <p:nvPr/>
        </p:nvSpPr>
        <p:spPr>
          <a:xfrm>
            <a:off x="2514600" y="3809880"/>
            <a:ext cx="4254480" cy="423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ивитамины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Object 11"/>
          <p:cNvGraphicFramePr/>
          <p:nvPr/>
        </p:nvGraphicFramePr>
        <p:xfrm>
          <a:off x="2514600" y="4419720"/>
          <a:ext cx="4295880" cy="14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4419720"/>
                    <a:ext cx="429588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3" nodeType="after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3581280" y="152280"/>
            <a:ext cx="228600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16000" y="4648320"/>
            <a:ext cx="8762760" cy="6426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в медицине  для  нормализации  липидного  обмена,  лечения  цирроза  печени  и желтухи,  сахарного  диабета,  атеросклеро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216000" y="2971800"/>
            <a:ext cx="8775720" cy="146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 витамин. Присутствует в тканях животных, растений и в микроорганизмах. Незаменимый фактор роста молочнокислых бактерий, дрожжей и др. Входит в состав множества оксидоредуктаз, в частности, участвует в окислительном декарбоксилировании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кетокси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11"/>
          <p:cNvGraphicFramePr/>
          <p:nvPr/>
        </p:nvGraphicFramePr>
        <p:xfrm>
          <a:off x="609480" y="838080"/>
          <a:ext cx="7925040" cy="20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7925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3"/>
          <p:cNvSpPr/>
          <p:nvPr/>
        </p:nvSpPr>
        <p:spPr>
          <a:xfrm>
            <a:off x="2590920" y="152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42920" y="5943600"/>
            <a:ext cx="885168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спользуются  для  лечении заболеваний  кровеносных  сосудов,  гипертонии,  кори,  скарлатины,  сыпного  тифа, кровоизлияния в сетчатку глаз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42920" y="765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  флавоноидных  соединений растений,  действует  подобно  витамину  С –  уменьшает  проницаемость  и  ломкость  капиллярных  кровеносных  сосу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Object 12"/>
          <p:cNvGraphicFramePr/>
          <p:nvPr/>
        </p:nvGraphicFramePr>
        <p:xfrm>
          <a:off x="755640" y="3657600"/>
          <a:ext cx="762624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3657600"/>
                    <a:ext cx="76262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13"/>
          <p:cNvGraphicFramePr/>
          <p:nvPr/>
        </p:nvGraphicFramePr>
        <p:xfrm>
          <a:off x="755640" y="1752480"/>
          <a:ext cx="7616880" cy="17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1752480"/>
                    <a:ext cx="76168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ut thruBlk="true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18" presetSubtype="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Object 9"/>
          <p:cNvGraphicFramePr/>
          <p:nvPr/>
        </p:nvGraphicFramePr>
        <p:xfrm>
          <a:off x="142920" y="658800"/>
          <a:ext cx="884880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58800"/>
                    <a:ext cx="884880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3"/>
          <p:cNvSpPr/>
          <p:nvPr/>
        </p:nvSpPr>
        <p:spPr>
          <a:xfrm>
            <a:off x="2590920" y="71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42920" y="5029200"/>
            <a:ext cx="8839080" cy="12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ироко применяются в медицине для стимуляции митохондрий  сердечной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ышц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сердечно-сосудистых заболеваниях и  мышечных дистрофиях, для уменьшения кардиотоксического действия противоопухолевых антиби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иков, в качестве иммуномодулирующего средства, при лечении особых форм анемии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42920" y="2666880"/>
            <a:ext cx="8848800" cy="10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Цвет: от желтого до красного. Повсеместн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пространен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тения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жи-вотны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ибах, микроорганизмах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центрируются в мембранах митохонд-рий,  микросомах, ядрах. Органы с наибольшими энергетическими потребнос-тями (сердце, печень) имеют максимальные концентрации убихононов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42920" y="3745080"/>
            <a:ext cx="8848800" cy="5925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частвую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вместе с витамином К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) 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ыхании высших растений, животных и микроорганизмов, в процессах окислительного фосфорилирования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142920" y="4419720"/>
            <a:ext cx="8848800" cy="560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промышленности получают биотехнологически из биомассы бактерий, дрожжей, низших грибов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295200" y="6308640"/>
            <a:ext cx="8848800" cy="368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рациклиновые антибиотики являются антагонистами витами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Object 12"/>
          <p:cNvGraphicFramePr/>
          <p:nvPr/>
        </p:nvGraphicFramePr>
        <p:xfrm>
          <a:off x="8493120" y="1258920"/>
          <a:ext cx="55260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31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13"/>
          <p:cNvGraphicFramePr/>
          <p:nvPr/>
        </p:nvGraphicFramePr>
        <p:xfrm>
          <a:off x="7308720" y="1258920"/>
          <a:ext cx="5526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9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4"/>
          <p:cNvGraphicFramePr/>
          <p:nvPr/>
        </p:nvGraphicFramePr>
        <p:xfrm>
          <a:off x="6116760" y="1258920"/>
          <a:ext cx="55224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1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6760" y="1258920"/>
                    <a:ext cx="552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5"/>
          <p:cNvGraphicFramePr/>
          <p:nvPr/>
        </p:nvGraphicFramePr>
        <p:xfrm>
          <a:off x="4894200" y="1258920"/>
          <a:ext cx="55260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3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9420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6"/>
          <p:cNvGraphicFramePr/>
          <p:nvPr/>
        </p:nvGraphicFramePr>
        <p:xfrm>
          <a:off x="4354560" y="1187280"/>
          <a:ext cx="539640" cy="871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5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5456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17"/>
          <p:cNvGraphicFramePr/>
          <p:nvPr/>
        </p:nvGraphicFramePr>
        <p:xfrm>
          <a:off x="5541840" y="1187280"/>
          <a:ext cx="540000" cy="871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57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4184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8"/>
          <p:cNvGraphicFramePr/>
          <p:nvPr/>
        </p:nvGraphicFramePr>
        <p:xfrm>
          <a:off x="6732720" y="1187280"/>
          <a:ext cx="539640" cy="87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9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73272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19"/>
          <p:cNvGraphicFramePr/>
          <p:nvPr/>
        </p:nvGraphicFramePr>
        <p:xfrm>
          <a:off x="7916760" y="1187280"/>
          <a:ext cx="540000" cy="871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1" name="Object 1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91676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5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2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3"/>
          <p:cNvSpPr/>
          <p:nvPr/>
        </p:nvSpPr>
        <p:spPr>
          <a:xfrm>
            <a:off x="3352680" y="152280"/>
            <a:ext cx="23623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79280" y="4495680"/>
            <a:ext cx="8736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о относят к незаменимым аминокислотам и считают витамино-подобным веществ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581280" y="1219320"/>
            <a:ext cx="5334120" cy="1191240"/>
          </a:xfrm>
          <a:prstGeom prst="rect">
            <a:avLst/>
          </a:prstGeom>
          <a:gradFill rotWithShape="0">
            <a:gsLst>
              <a:gs pos="0">
                <a:srgbClr val="c5ff23"/>
              </a:gs>
              <a:gs pos="50000">
                <a:srgbClr val="ffffff"/>
              </a:gs>
              <a:gs pos="100000">
                <a:srgbClr val="c5ff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  в  капустном  соке,  спарже,  зелени петрушки и репы,  шпинате,  сельдерее,  томатах,  перце, зелёном чае, бананах, фруктах, сыром моло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179280" y="2895480"/>
            <a:ext cx="8763120" cy="916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потреблении  250 - 300 мг/сутки  оказывает  болеутоляющее  действие, способствует  эпителизации  оболочки  желудка,  кишечника  и  двенадцатиперстной  киш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Object 10"/>
          <p:cNvGraphicFramePr/>
          <p:nvPr/>
        </p:nvGraphicFramePr>
        <p:xfrm>
          <a:off x="179280" y="838080"/>
          <a:ext cx="32767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838080"/>
                    <a:ext cx="32767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11"/>
          <p:cNvSpPr/>
          <p:nvPr/>
        </p:nvSpPr>
        <p:spPr>
          <a:xfrm>
            <a:off x="179280" y="3962520"/>
            <a:ext cx="8736120" cy="405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химический донор С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групп, работает в составе кофер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500"/>
                            </p:stCondLst>
                            <p:childTnLst>
                              <p:par>
                                <p:cTn id="507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1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205092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108000" y="836640"/>
            <a:ext cx="8856720" cy="2230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щества, которые могут синтезироваться в организме животных без внешних факторов (в отличии от истинных витаминов) и обладают витаминными (незаменимыми) свойствами, называют витаминоподобными. К ним относят холин, липоевую кислоту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пангамовую кислот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оротовую кислоту, инозит (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убихино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р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ую кислоту, карнитин, полиненасыщенные жирные кислоты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витамин U (противоязвенный фактор) и ряд факторов роста птиц, крыс, цыплят, тканевых культу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12"/>
          <p:cNvGraphicFramePr/>
          <p:nvPr/>
        </p:nvGraphicFramePr>
        <p:xfrm>
          <a:off x="114480" y="3073320"/>
          <a:ext cx="8902440" cy="21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3073320"/>
                    <a:ext cx="89024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Text Box 13"/>
          <p:cNvSpPr/>
          <p:nvPr/>
        </p:nvSpPr>
        <p:spPr>
          <a:xfrm>
            <a:off x="216000" y="5300640"/>
            <a:ext cx="8928000" cy="1341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Оротовая кисло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предшественником пиримидиновых нуклеотид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ется при нарушениях белкового обмена, для нормализации функций пече-ни, для снижения аппетита, при инфарктах миокарда. Выполняет роль анаболика - заместителя стероидных гормонов. Потребность – 1-1.5 г в сут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ется в женском молоке, печени, дрожжах, растительных продукт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337176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17"/>
          <p:cNvGrpSpPr/>
          <p:nvPr/>
        </p:nvGrpSpPr>
        <p:grpSpPr>
          <a:xfrm>
            <a:off x="3276720" y="1628640"/>
            <a:ext cx="4038480" cy="2321280"/>
            <a:chOff x="3276720" y="1628640"/>
            <a:chExt cx="4038480" cy="2321280"/>
          </a:xfrm>
        </p:grpSpPr>
        <p:grpSp>
          <p:nvGrpSpPr>
            <p:cNvPr id="378" name="Group 12"/>
            <p:cNvGrpSpPr/>
            <p:nvPr/>
          </p:nvGrpSpPr>
          <p:grpSpPr>
            <a:xfrm>
              <a:off x="3276720" y="2161800"/>
              <a:ext cx="2057400" cy="1788120"/>
              <a:chOff x="3276720" y="2161800"/>
              <a:chExt cx="2057400" cy="1788120"/>
            </a:xfrm>
          </p:grpSpPr>
          <p:graphicFrame>
            <p:nvGraphicFramePr>
              <p:cNvPr id="379" name="Object 9"/>
              <p:cNvGraphicFramePr/>
              <p:nvPr/>
            </p:nvGraphicFramePr>
            <p:xfrm>
              <a:off x="3276720" y="2161800"/>
              <a:ext cx="1962000" cy="1758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80" name="Object 9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276720" y="2161800"/>
                        <a:ext cx="1962000" cy="1758960"/>
                      </a:xfrm>
                      <a:prstGeom prst="rect">
                        <a:avLst/>
                      </a:prstGeom>
                      <a:ln w="3168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381" name="Text Box 11"/>
              <p:cNvSpPr/>
              <p:nvPr/>
            </p:nvSpPr>
            <p:spPr>
              <a:xfrm>
                <a:off x="3276720" y="3076200"/>
                <a:ext cx="205740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воробейник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Lithospermum officinale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16"/>
            <p:cNvGrpSpPr/>
            <p:nvPr/>
          </p:nvGrpSpPr>
          <p:grpSpPr>
            <a:xfrm>
              <a:off x="5562720" y="1628640"/>
              <a:ext cx="1752480" cy="2286000"/>
              <a:chOff x="5562720" y="1628640"/>
              <a:chExt cx="1752480" cy="2286000"/>
            </a:xfrm>
          </p:grpSpPr>
          <p:pic>
            <p:nvPicPr>
              <p:cNvPr id="383" name="Picture 15" descr="Zea_mays_K"/>
              <p:cNvPicPr/>
              <p:nvPr/>
            </p:nvPicPr>
            <p:blipFill>
              <a:blip r:embed="rId6"/>
              <a:stretch/>
            </p:blipFill>
            <p:spPr>
              <a:xfrm>
                <a:off x="5562720" y="1628640"/>
                <a:ext cx="1714680" cy="228600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384" name="Text Box 13"/>
              <p:cNvSpPr/>
              <p:nvPr/>
            </p:nvSpPr>
            <p:spPr>
              <a:xfrm>
                <a:off x="5639040" y="3533400"/>
                <a:ext cx="16761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Zea </a:t>
                </a:r>
                <a:r>
                  <a:rPr b="1" i="1" lang="en-US" sz="2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ay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6" nodeType="afterEffect" fill="hold" presetClass="exit" presetID="3" presetSubtype="10">
                                  <p:stCondLst>
                                    <p:cond delay="8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2268360" y="7128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08000" y="692280"/>
            <a:ext cx="8856720" cy="208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зи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мощным липотропным фактором, участвует в фосфоглицерид-ном обмене, тормозит развитие дистрофии печени у животных, находящихся на безбелковой диете и у человека при злокачественных новообразованиях. Отсут-ствие в пищи крыс вызывает плешивость, расстройства нервной системы и желу-дочно-кишечного тракта. Суточная потребность – не менее 1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мясе, молоке, хлебе из муки грубого помола, овощах и фрукт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тиновая кислота широко распростране в растениях. Её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ь (фитин) стимулирует кроветворение, улучшает нервную деятельнос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0" y="5334120"/>
            <a:ext cx="8856720" cy="1517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ая кислота является ростостимулирующим фактором дрожжей и других микроорганизмов. Необходима для нормального процесса пигментации волос, шерсти, перьев и кожи. Активирует действие тирозиназы – ключевого фер-мента при биосинтезе меланинов кож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почках, мясе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ы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 обладают местно-анестезирующим действием. Сульфанил-амидные антибиотики – структурные аналог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12"/>
          <p:cNvGraphicFramePr/>
          <p:nvPr/>
        </p:nvGraphicFramePr>
        <p:xfrm>
          <a:off x="0" y="2852640"/>
          <a:ext cx="88837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52640"/>
                    <a:ext cx="888372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500"/>
                            </p:stCondLst>
                            <p:childTnLst>
                              <p:par>
                                <p:cTn id="561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8000"/>
                            </p:stCondLst>
                            <p:childTnLst>
                              <p:par>
                                <p:cTn id="565" nodeType="afterEffect" fill="hold" presetClass="entr" presetID="16" presetSubtype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226836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3670200" y="1052640"/>
            <a:ext cx="535644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нгамовую кислоту используют при ряде заболеваний, связанных с нарушением обмена веществ (реакции трансметилирования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жировом перерождении печени и некоторых формах кислородного голодания. Много в печени, семенах растений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0"/>
          <p:cNvGraphicFramePr/>
          <p:nvPr/>
        </p:nvGraphicFramePr>
        <p:xfrm>
          <a:off x="177840" y="914400"/>
          <a:ext cx="3263760" cy="19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914400"/>
                    <a:ext cx="32637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11"/>
          <p:cNvSpPr/>
          <p:nvPr/>
        </p:nvSpPr>
        <p:spPr>
          <a:xfrm>
            <a:off x="179280" y="2997360"/>
            <a:ext cx="88567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виде кальциевой соли применяется при ишемической болезни сердца, атеросклерозе, инфаркте миокарда, гепатите, стенокардии. Снимает токсическое действие при отравлениях алкоголе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1"/>
          <p:cNvGraphicFramePr/>
          <p:nvPr/>
        </p:nvGraphicFramePr>
        <p:xfrm>
          <a:off x="133200" y="3914640"/>
          <a:ext cx="2124360" cy="125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8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" y="3914640"/>
                    <a:ext cx="21243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Text Box 13"/>
          <p:cNvSpPr/>
          <p:nvPr/>
        </p:nvSpPr>
        <p:spPr>
          <a:xfrm>
            <a:off x="2362320" y="4038480"/>
            <a:ext cx="6583320" cy="110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называют витамином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итамином роста. У млеко-питающих участвует в процессах окисления жирных кислот. В медицине используется для лечения психических и неврологических расстройствах. Анабол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30290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14"/>
          <p:cNvGrpSpPr/>
          <p:nvPr/>
        </p:nvGrpSpPr>
        <p:grpSpPr>
          <a:xfrm>
            <a:off x="152280" y="5257800"/>
            <a:ext cx="2057400" cy="1559520"/>
            <a:chOff x="152280" y="5257800"/>
            <a:chExt cx="2057400" cy="1559520"/>
          </a:xfrm>
        </p:grpSpPr>
        <p:pic>
          <p:nvPicPr>
            <p:cNvPr id="402" name="imgb" descr="http://www.nature.ca/notebooks/images/img/095c_p_octo2_p.jpg"/>
            <p:cNvPicPr/>
            <p:nvPr/>
          </p:nvPicPr>
          <p:blipFill>
            <a:blip r:embed="rId6"/>
            <a:stretch/>
          </p:blipFill>
          <p:spPr>
            <a:xfrm>
              <a:off x="152280" y="5257800"/>
              <a:ext cx="2057400" cy="154908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403" name="Text Box 11"/>
            <p:cNvSpPr/>
            <p:nvPr/>
          </p:nvSpPr>
          <p:spPr>
            <a:xfrm>
              <a:off x="533160" y="6187680"/>
              <a:ext cx="167652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topus octopo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500"/>
                            </p:stCondLst>
                            <p:childTnLst>
                              <p:par>
                                <p:cTn id="584" nodeType="afterEffect" fill="hold" presetClass="entr" presetID="5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2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627280" y="115920"/>
            <a:ext cx="4176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1762200" y="2705040"/>
            <a:ext cx="58579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Object 8"/>
          <p:cNvGraphicFramePr/>
          <p:nvPr/>
        </p:nvGraphicFramePr>
        <p:xfrm>
          <a:off x="1765440" y="3352680"/>
          <a:ext cx="585468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5440" y="3352680"/>
                    <a:ext cx="5854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9"/>
          <p:cNvGraphicFramePr/>
          <p:nvPr/>
        </p:nvGraphicFramePr>
        <p:xfrm>
          <a:off x="108000" y="762120"/>
          <a:ext cx="312408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762120"/>
                    <a:ext cx="3124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13"/>
          <p:cNvSpPr/>
          <p:nvPr/>
        </p:nvSpPr>
        <p:spPr>
          <a:xfrm>
            <a:off x="3281400" y="790560"/>
            <a:ext cx="5791320" cy="1807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Жирорастворимый витамин, выполняет функции фактора роста и антиксерофтальмического фактора.  Много - в  животных  продуктах,  в печени  морских  животных  и  рыб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достаток витамина вызывает ксерофтальмию, "куриную слепоту", остановку роста костей и клеток надпочечников, повреждение тканей ЦНС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1762200" y="6248520"/>
            <a:ext cx="58341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потребность в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отине – 2-5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651640" y="314172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место расщеп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8" presetSubtype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692360" y="71280"/>
            <a:ext cx="5832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42920" y="5505480"/>
            <a:ext cx="8856720" cy="1130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требность в витамине А (3 мг в сутки) покрывается полностью за счет рас-тительной пищи, богатой каротиноидами (свежие овощи, фрукты и ягоды, осо-бенно морковь и облепиха). Накапливается преимущественно в печени (20 мг на 100 г), его запасы могут обеспечить потребности организма в течение 2 лет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10"/>
          <p:cNvGraphicFramePr/>
          <p:nvPr/>
        </p:nvGraphicFramePr>
        <p:xfrm>
          <a:off x="762120" y="685800"/>
          <a:ext cx="7619760" cy="46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85800"/>
                    <a:ext cx="76197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ut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Object 6"/>
          <p:cNvGraphicFramePr/>
          <p:nvPr/>
        </p:nvGraphicFramePr>
        <p:xfrm>
          <a:off x="181080" y="828720"/>
          <a:ext cx="889632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88963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843280" y="11592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10"/>
          <p:cNvGraphicFramePr/>
          <p:nvPr/>
        </p:nvGraphicFramePr>
        <p:xfrm>
          <a:off x="179280" y="3657600"/>
          <a:ext cx="8856720" cy="29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3657600"/>
                    <a:ext cx="885672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843280" y="18900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8"/>
          <p:cNvGraphicFramePr/>
          <p:nvPr/>
        </p:nvGraphicFramePr>
        <p:xfrm>
          <a:off x="152280" y="1295280"/>
          <a:ext cx="8820360" cy="377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882036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2920" y="5562720"/>
            <a:ext cx="8839080" cy="1228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 потребность  -  10 мг,  имеется в яйцах,  дрожжах,  горохе,  печени,  почках,  сердце.  У  человека  синтезируется  кишечной  палочкой.  У  животных  отсутствие витамина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вызывает  дерматиты,  выпадение  шер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Object 10"/>
          <p:cNvGraphicFramePr/>
          <p:nvPr/>
        </p:nvGraphicFramePr>
        <p:xfrm>
          <a:off x="142920" y="914400"/>
          <a:ext cx="883908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914400"/>
                    <a:ext cx="8839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8"/>
          <p:cNvGraphicFramePr/>
          <p:nvPr/>
        </p:nvGraphicFramePr>
        <p:xfrm>
          <a:off x="285840" y="733320"/>
          <a:ext cx="836280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733320"/>
                    <a:ext cx="836280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9"/>
          <p:cNvSpPr/>
          <p:nvPr/>
        </p:nvSpPr>
        <p:spPr>
          <a:xfrm>
            <a:off x="287280" y="4108320"/>
            <a:ext cx="8399520" cy="76428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ерментативное  превращение  триптофана  в никотинамидадениндинуклеоти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10"/>
          <p:cNvGraphicFramePr/>
          <p:nvPr/>
        </p:nvGraphicFramePr>
        <p:xfrm>
          <a:off x="287280" y="4952880"/>
          <a:ext cx="841716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7280" y="4952880"/>
                    <a:ext cx="841716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"/>
          <p:cNvSpPr/>
          <p:nvPr/>
        </p:nvSpPr>
        <p:spPr>
          <a:xfrm>
            <a:off x="250920" y="30686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пеллагрический витамин. Основными источниками являются рис, хлеб, картофель, мясо, печень, почки, морковь и другие продукты. Суточная потребность для взрослого человека составляет 18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9"/>
          <p:cNvGraphicFramePr/>
          <p:nvPr/>
        </p:nvGraphicFramePr>
        <p:xfrm>
          <a:off x="1619280" y="907920"/>
          <a:ext cx="611820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907920"/>
                    <a:ext cx="61182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10"/>
          <p:cNvSpPr/>
          <p:nvPr/>
        </p:nvSpPr>
        <p:spPr>
          <a:xfrm>
            <a:off x="304920" y="4800600"/>
            <a:ext cx="8610480" cy="156096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ят  в  состав  многочисленных  ферментов  -   оксидоредук-таз (дегидрогеназ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реакциях  дегидрирования,  окисления,  изомеризации,  в  фотосинтезе,  дыхании,  энергетическом  обмене,  анаэробном  расщеплении  углевод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8:19:43Z</dcterms:created>
  <dc:creator>chibiryaev</dc:creator>
  <dc:description/>
  <dc:language>en-US</dc:language>
  <cp:lastModifiedBy>Admin</cp:lastModifiedBy>
  <dcterms:modified xsi:type="dcterms:W3CDTF">2012-02-04T03:31:15Z</dcterms:modified>
  <cp:revision>228</cp:revision>
  <dc:subject/>
  <dc:title>Презентация PowerPoint</dc:title>
</cp:coreProperties>
</file>