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1B3-57A2-41D5-B296-DE5EDA31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D73-D6FB-4EAD-88E6-DC0C5F12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100-EFAD-4B5A-A170-7DF8DD0B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C2E-28D6-407C-ADDE-6AAFFB5B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0336-8EFC-46CA-865F-2B8FB16C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CC91-22E1-488D-B0F1-869A7A14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80B8-ACAC-45C2-8E7D-C03A90A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C56D-6AC2-4290-A87A-2D8659C5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2B66-7779-44C5-A334-B045125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761E-F3FB-419B-B3B4-2DC796BC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83EA-9ED5-4605-8736-C976B10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306-E446-4DFB-88AA-D9D104A6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C09F-960C-441E-88F0-49A14686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3F4F-358B-4A39-983F-364F1AC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39D2-CEED-4DA7-AE9F-660B300C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271E-B89A-4DCD-82E8-5BFE93A0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ABFC-4773-4B66-BF4B-DF7F6D0C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BF6E2-C7E5-43BD-A434-BC42BA2C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2BEE-0B6D-49D2-81A4-815D6BF4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2FA5-8922-4366-A1A5-79CB278B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F357-0AB5-42D7-BB9A-81817A7D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54DD-3C81-4916-9393-41CD34C9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D6D-04CD-4712-BAAA-D08FD4F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A764-CCFD-4FB6-B23F-64E3809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E0CA-32E0-4AC8-A940-F7F40AF0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8F63B-1351-4163-AF33-F6829282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98DD-9112-49D3-8EDC-627C7FA1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7AADC-A906-47B9-8550-8DEEDB04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1618-0AED-4053-9D97-09FC928E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976A-022F-45C8-8C57-1494D3B8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5D3A-6779-4658-8CE4-DD3049DC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BB8A8-9A42-45DE-B212-DF39F04F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50F9-2013-45BB-85C1-EFFBC642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9BD-C512-48A8-B236-E94DC5E9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6DA9-390F-4181-872F-3FDEEDC1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075ED-0896-4271-9184-99C2B671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C2A1-1885-4893-8524-02522210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E365-4C0E-4C36-BF34-0EEF8FC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9187-C65C-4589-B44C-A15ECFD0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CE887-2E03-4E2D-8127-4F5347A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CD182-7E4D-4681-91AA-B65D306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A587-2FC7-49CC-8C4D-7100E275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9DF7-BC97-4DA0-8D43-C764FF8C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84CC-5A5F-432A-97FD-F9D59F49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A41-EDD7-41D4-A59D-25F535E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42997-7173-4C5D-BA2F-D96D307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0691-EFF3-4496-9DF1-FDB9575B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A191-2989-4414-A348-5E9F3F3F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0CBA5-376D-4E09-9819-AC3F046A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B55E1-1696-45A9-BBF1-73B7A163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261E3-BECF-4271-ADDB-4D23FBE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158C-7B46-4F45-B579-B7E343D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C45E1-954C-4D73-9141-D748029A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2AA8D-82F2-4EE2-B4C3-EA7DC715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FCDE-EEA4-4122-B6DD-EE8BAEA69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A09-3EF7-4583-8466-9A8F13AA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1E11-1A59-4D9A-8B55-E16B3D21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B10BB-8D63-44BA-9D89-AD7F634F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9FFAD-1EBB-4E17-A439-73DEAFB6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E104-DDED-4632-93B5-35E37965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BA993-D1E2-4473-80F7-BC5D7AF6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6DD95-F7D0-45C1-86BA-83D31702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D83AB-0953-4E32-A926-19224FAD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0AA3-6B91-4BCD-A890-BC2D8829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7987-E4FD-466D-B038-CF5BFE0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4FB6F-BD34-41C2-9B6B-9209A85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D29-994D-4E34-973F-BE32D41B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123C9-688E-4490-9DAF-50F71C8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4C503-0E12-46F2-A2D9-4B5355F8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5B08-B386-4EEE-8492-EE0ED2CE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7CF9D-4D2A-4D55-BA90-D7CF75BD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E008E-79EB-45FA-94C1-04556E28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6B91F-DC8D-4B6C-A872-8C6F63D0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A9A5-5C04-4D63-889C-256158B2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92B0E-2F26-4BE9-A7FA-B342A8CC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55008-FA9B-4E80-BA85-DF58F855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F7EA4-FE5A-4A18-99D5-469666F0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D21-82C5-41BE-996C-01C92B9D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21D71-821D-4220-AA81-0459D38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E5080-8A9C-4352-978E-2F177E1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4BB1-CCE7-435B-AC5F-F249368C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1716A-5FB8-4D06-B70E-FF5C7E65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4046-8C80-4478-9906-BEE10983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55E4A-81CA-442F-AA8C-B9B564EA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F31F3-64FA-4A65-A851-E7500700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ECBC-5D16-4F03-8126-6BCE4C83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0C35D-88CD-4641-B9BE-9D6698C5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F4340-6D8E-4BA4-B31D-0D0BB8B5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C64-9C3E-47C0-B185-C232E14D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EDD44-B19E-403B-AFF7-F9D947A1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4FF00-9CAE-481B-B162-188EC9E4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E15BE-D37D-4836-B532-329C449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4D0E8-DA85-4C7E-9A0A-5E44F11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DF7FA-93DC-465A-93B6-8968D43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0A569-B86F-4F87-9296-0FEFB231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8A199-BEE7-4D69-A948-DE99D624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F83A-398E-4016-89E6-E97B632590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ED14-9544-4FA5-A059-D920CE3C57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D463-CB21-4315-8449-9BB33F4CD4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3C61-3EA1-4D70-9A7F-E1E3DE1516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FD06-A039-483E-9590-A646F96F10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00B9-5D7E-4DB1-B593-81785F41B6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76BA-7FBC-43A7-879F-3CED4E5D2A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180-C33D-4359-AF43-ECE277AF82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Йодометрический метод титров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Фиксируют конечную точку титрования в методе йодометрии с помощью специфического индикатора - 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крахмал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который образует с йодом комплексно-адсорбционное соединение синего цвета соединение йода с крахмалом очень прочное, крахмал следует добавлять в конце титрования, когда окраска раствора становится бледно-желтой. Если вводить крахмал раньше, то очень много йода будет связано с крахмалом. При титровании йод с трудом освобождается из соединения с крахмалом, и результат титрования окажется неточны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27a8f"/>
                </a:solidFill>
                <a:latin typeface="Lucida Sans Unicode"/>
              </a:rPr>
              <a:t>Рабочими растворами метода йодометрии являются растворы йода и тиосульфата натрия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27a8f"/>
                </a:solidFill>
                <a:latin typeface="Lucida Sans Unicode"/>
              </a:rPr>
              <a:t>Титрованный раствор йода можно приготовить исходя из точной навески химически чистого кристаллического йода, который очищают от примесей путем возгонк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27a8f"/>
                </a:solidFill>
                <a:latin typeface="Lucida Sans Unicode"/>
              </a:rPr>
              <a:t>Однако, очистка йода представляет собой очень трудоемкую операцию. Кроме того, титрованный раствор в процессе работы с ним и при длительном хранении меняет свой титр вследствие летучести йода, и периодически его нужно проверять. Поэтому обычно готовят раствор I2 приблизительно нужной концентрации (0,05-0,1 н.) растворением навески йода в растворе KI (40 г/л). Точную концентрацию полученного раствора устанавливают по раствору тиосульфата натр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068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Тиосульфат натрия Na2S2O3*5Н2О является неустойчивым веществом. Оно легко реагирует с углекислым газом и кислородом воздух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2S2O3 +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2 = NaHCO3 + Na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3 + Sv 2Na2S2O3 + O2 = 2Na2SO4 + 2Sv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этому готовят приблизительно 0,1 н. раствор тиосульфата, растворяя навеску соли в свежепрокипяченой воде (для удаления СO2). Хранить готовый раствор Na2S2O3 рекомендуется в темных бутылях, защищенных от двуокиси углерода трубкой с натронной известью. В дальнейшем титр раствора начинает медленно уменьшаться, поэтому его необходимо периодически проверять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Для установки концентрации тиосульфата предложено много различных стандартных веществ, например твердый химически чистый йод, йодат калия KIO3, бромат калия KBrO3, дихромат калия и др. На практике чаще всего пользуются дихроматом калия K2Cr2O7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530280" y="182232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Йодометрия - метод окислительно-восстановительного титрования, основанный на реакциях, связанных с окислением восстановителей свободным йодом или с восстановлением окислителей йодидом калия.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Метод основан на окислении йодида активным хлором до йода, который титруют тиосульфатом натрия. Озон, нитриты, окись железа и другие соединения в кислом растворе выделяют йод из йодистого калия, поэтому пробы воды подкисляют буферным раствором с рН 4,5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Йодометрический метод предназначен для анализа воды с содержанием активного хлора более 0,3 мг/л при объеме пробы 250 мл. Метод может быть рекомендован также для окрашенных и мутных вод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Заголовок 2" descr=""/>
          <p:cNvPicPr/>
          <p:nvPr/>
        </p:nvPicPr>
        <p:blipFill>
          <a:blip r:embed="rId1"/>
          <a:stretch/>
        </p:blipFill>
        <p:spPr>
          <a:xfrm>
            <a:off x="225360" y="-49320"/>
            <a:ext cx="8467920" cy="1122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Йодометрический метод широко применяется в практике химического анализа. Этим методом пользуются при количественном определении многих восстановителей: кислот H2S, Н25Оз, H2S2O3 и их солей, двухлористого олова, многих окислителей - КМпО4, би-хромата калия К2Сг2О7, хлора, брома, солей двухвалентной меди и других веществ. Иодометрическим методом устанавливают степень насыщенности жиров, или йодное число жира, характеризующее свойство жи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aecd"/>
                </a:solidFill>
                <a:latin typeface="Lucida Sans Unicode"/>
              </a:rPr>
              <a:t>Йодометрический метод пригоден для количественного определения сильных кислот: серной, соляной и азотной. В растворах слабых кислот концентрация водородных ионов мала и реакция идет медленно.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Йодометрический метод определения меди очень точен. Этот метод применяют для определения меди в цветных сплавах и в рудах. Преобладающее большинство посторонних ионов, которые обычно содержатся в перечисленных материалах, не мешают определению меди, исключение составляют ионы, способные окисляться иодом или окислять иодид-ион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Йодометрический метод определения меди является одним из наиболее точных методов, и в этом отношении уступает только электролитическому методу. Однако в сравнении с электролитическим методом он имеет то преимущество, что определение может быть проведено в присутствии ряда элементов, которые осаждаются при электролизе на катоде совместно с медью или мешают ее выделению. Кроме того, Йодометрический метод значительно быстрее электролитическог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068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 Большая точность по сравнению с другими методами окислительно-восстановительного титрова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Растворы йода окрашены, и титрование можно проводить без индикато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Йод хорошо растворяется в органических растворителях, поэтому метод широко применяется для титрования в неводных средах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219240" y="42840"/>
            <a:ext cx="8418240" cy="1414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0880" y="1294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1. Потери йода из-за его летучести. Поэтому титрование проводят на холоду и по возможности быстро. При необходимости оставить раствор на некоторое время для завершения реакции, его хранят под притертой пробкой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2. Окисление ионов йода кислородом воздуха в кислой сред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3. Йодометрическое титрование нельзя проводить в щелочной среде вследствие диспропорционирования йод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4. Относительно медленные скорости реакций с участием йод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5. В процессе хранения стандартные растворы йода и тиосульфата изменяют свой титр. Чтобы избежать ошибок, необходимо периодически проверять титр йода по тиосульфату, а титр тиосульфата по дихромату калия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328680" y="85680"/>
            <a:ext cx="8364600" cy="1341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2:11:47Z</dcterms:created>
  <dc:creator>noutbook</dc:creator>
  <dc:description/>
  <dc:language>en-US</dc:language>
  <cp:lastModifiedBy>Пользователь</cp:lastModifiedBy>
  <dcterms:modified xsi:type="dcterms:W3CDTF">2012-06-28T08:07:36Z</dcterms:modified>
  <cp:revision>11</cp:revision>
  <dc:subject/>
  <dc:title>Презентация</dc:title>
</cp:coreProperties>
</file>