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7F5F-6C93-4D5E-99C7-9D88B8A1D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3EC3-4D2F-43B6-B1B8-E8A8A9839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BE37-EC88-4660-92F0-587AE9449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25D9-5351-4B8E-B761-B0090B57B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F8D6A-C376-4787-9A78-87957DE8E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8A048-EA38-41C0-A08C-E06959BFC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F3AD7-9B27-485A-B8B6-0FDE32E23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09DED-F175-44C2-8F97-3520B3D1A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0F72D-E657-402A-B4E8-813F876BD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DEC41-E34E-4D8F-9471-DF20962A0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85E24-90BF-4DD5-BDB9-80188C65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9D88-F28A-4013-AECB-2AF8064FF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F5CBE-7A3D-478A-B32B-3BBD911F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4CDF5-74E2-4EF5-82D5-19629E90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DCF64-E359-472D-BF91-2970C1FD1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6A77D-3926-4EA4-AC21-A504120CF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183F9-96E7-42BB-80CC-A05EBAB49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5D240-B58B-48B0-AB39-C9388DCAD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64F34-3507-44A5-B728-5D2AAE9B1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3A703-69CC-4C0C-81A1-D14EC82F5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DA45C-A56C-49BC-8E39-90CACCEB2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7639E-73A9-46A8-8B9C-7FDF4859E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CE35-D299-4786-B24E-260F0CA24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332A7-B644-48AF-B388-1B876BA06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856BD-0150-4FBB-A436-4DCADC21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54FC3-A4A9-4BB5-A261-EF7F281B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F7008-5754-4020-8654-6FB2FE6A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579F1-DAA7-4888-BE7D-A6CE0BC1E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51816-FE91-4E28-A076-1B380A8C7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2B42C-9012-43B4-8B61-28A201AD1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3B6C9-11D3-4E0E-8515-A0EFEB3D1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7A585-FF37-43F6-BC2E-8AC5CB5A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C294A-40D4-4D6B-88FC-C631D1AD3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AEA7-D981-4A2F-927D-E47B3F93D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3B3F9-206B-4B33-8B82-21A20E512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17649-D545-4EB2-ABAF-140FE22CC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3D610-9F13-4655-B4DE-BEB1787E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89381-F045-456A-BF44-12E3A882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DE843-56C4-4AA1-8879-BB7EA0F5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7433C-3F84-47F1-A269-CFE396B7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8B018-325E-4B0E-AC4E-34B83143B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5D64D-5F47-4AEE-9454-5596C137D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CC2CE-0351-4FAC-8F71-A6E9E4E45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7C54D-B943-47AC-8AEE-546F26C8B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DA54-2843-4128-9E97-FD1AE529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6D204-49BB-4823-A768-01026B59E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86148-D980-4C47-B381-BC3AD7999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7162E-FFF9-4F04-A637-3BF6C3A9B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2FB83-8CFC-427D-9909-4570A25BA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815EE-6C90-4B5D-A724-B5B11D8D4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54908-38F2-4D0D-B456-4397561A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8E8BF-2D88-4AD9-8146-EA1BC73F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37A0B-A1B2-4362-B08F-E894FE1C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B6B3A-7B06-4C39-A563-009366D34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1EFEA-06EF-4972-901A-6AD856EC2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97A1-7A67-4D16-A211-9E5D69DE1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E7298-6D5E-4033-968B-D3351410F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90A1-E3D6-4507-ACCA-6385BDE8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13B9-74FF-42E8-94C3-77209EA4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34BB-3384-466A-971D-1C2B46AC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F0DD1-12BE-4C70-A77E-82C77D412E50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820D9-3E5F-409F-A417-57840A2EBA43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8BBCB-5DE2-4FC1-B3BB-821472CC30E0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BE542-7B12-49BF-A296-FF68F34CFAD0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0FFD8-5932-425E-8544-2DC3DAA18658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3560760" y="1127160"/>
            <a:ext cx="55339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7200" y="285840"/>
            <a:ext cx="7238880" cy="61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К числу наиболее распространенных  методов относятся следующие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Скругленный прямоугольник 3"/>
          <p:cNvSpPr/>
          <p:nvPr/>
        </p:nvSpPr>
        <p:spPr>
          <a:xfrm>
            <a:off x="642960" y="1357200"/>
            <a:ext cx="2714760" cy="64296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Осаждение и соосаждение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Скругленный прямоугольник 4"/>
          <p:cNvSpPr/>
          <p:nvPr/>
        </p:nvSpPr>
        <p:spPr>
          <a:xfrm>
            <a:off x="3357720" y="2143080"/>
            <a:ext cx="2714400" cy="64296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сорбционные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Скругленный прямоугольник 5"/>
          <p:cNvSpPr/>
          <p:nvPr/>
        </p:nvSpPr>
        <p:spPr>
          <a:xfrm>
            <a:off x="1785960" y="4572000"/>
            <a:ext cx="2714760" cy="64296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дистилляция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Скругленный прямоугольник 6"/>
          <p:cNvSpPr/>
          <p:nvPr/>
        </p:nvSpPr>
        <p:spPr>
          <a:xfrm>
            <a:off x="5572080" y="3429000"/>
            <a:ext cx="1643040" cy="42876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хемосорбция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Скругленный прямоугольник 7"/>
          <p:cNvSpPr/>
          <p:nvPr/>
        </p:nvSpPr>
        <p:spPr>
          <a:xfrm>
            <a:off x="0" y="3929040"/>
            <a:ext cx="2714760" cy="64296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сублимация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Скругленный прямоугольник 8"/>
          <p:cNvSpPr/>
          <p:nvPr/>
        </p:nvSpPr>
        <p:spPr>
          <a:xfrm>
            <a:off x="3357720" y="5214960"/>
            <a:ext cx="2714400" cy="64296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экстрагирование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Скругленный прямоугольник 9"/>
          <p:cNvSpPr/>
          <p:nvPr/>
        </p:nvSpPr>
        <p:spPr>
          <a:xfrm>
            <a:off x="3929040" y="3429000"/>
            <a:ext cx="1571760" cy="42876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абсорбция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Скругленный прямоугольник 10"/>
          <p:cNvSpPr/>
          <p:nvPr/>
        </p:nvSpPr>
        <p:spPr>
          <a:xfrm>
            <a:off x="2286000" y="3429000"/>
            <a:ext cx="1571760" cy="42876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адсорбция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Стрелка вниз 11"/>
          <p:cNvSpPr/>
          <p:nvPr/>
        </p:nvSpPr>
        <p:spPr>
          <a:xfrm>
            <a:off x="3429000" y="2857680"/>
            <a:ext cx="142920" cy="50004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Стрелка вниз 12"/>
          <p:cNvSpPr/>
          <p:nvPr/>
        </p:nvSpPr>
        <p:spPr>
          <a:xfrm>
            <a:off x="4572000" y="2857680"/>
            <a:ext cx="142920" cy="50004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Стрелка вниз 13"/>
          <p:cNvSpPr/>
          <p:nvPr/>
        </p:nvSpPr>
        <p:spPr>
          <a:xfrm>
            <a:off x="5786280" y="2857680"/>
            <a:ext cx="142920" cy="50004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Скругленный прямоугольник 15"/>
          <p:cNvSpPr/>
          <p:nvPr/>
        </p:nvSpPr>
        <p:spPr>
          <a:xfrm>
            <a:off x="5429160" y="5857920"/>
            <a:ext cx="2714760" cy="64296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применение ионного обмен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57200" y="285840"/>
            <a:ext cx="7238880" cy="61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TextBox 4"/>
          <p:cNvSpPr/>
          <p:nvPr/>
        </p:nvSpPr>
        <p:spPr>
          <a:xfrm>
            <a:off x="0" y="642960"/>
            <a:ext cx="8143920" cy="520560"/>
          </a:xfrm>
          <a:prstGeom prst="rect">
            <a:avLst/>
          </a:prstGeom>
          <a:solidFill>
            <a:srgbClr val="e2a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Химическое фракционное осаждение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TextBox 5"/>
          <p:cNvSpPr/>
          <p:nvPr/>
        </p:nvSpPr>
        <p:spPr>
          <a:xfrm>
            <a:off x="0" y="3000240"/>
            <a:ext cx="8143920" cy="520560"/>
          </a:xfrm>
          <a:prstGeom prst="rect">
            <a:avLst/>
          </a:prstGeom>
          <a:solidFill>
            <a:srgbClr val="e2a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Соосаждение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TextBox 9"/>
          <p:cNvSpPr/>
          <p:nvPr/>
        </p:nvSpPr>
        <p:spPr>
          <a:xfrm>
            <a:off x="785880" y="1214280"/>
            <a:ext cx="6500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рименяют для разделения смесей ионов,образующих однотипные соли различной растворимости ,такие ,как сульфаты и хромиты бария и кальция, сульфиды ряда металлов (при определенном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H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раствора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TextBox 10"/>
          <p:cNvSpPr/>
          <p:nvPr/>
        </p:nvSpPr>
        <p:spPr>
          <a:xfrm>
            <a:off x="785880" y="3571920"/>
            <a:ext cx="6000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Один из наиболее простых и эффективных методов. В раствор, содержащий следы определяемого иона, входят катион(или анион),который и осаждают подходящим реактивом в виде малорастворимого соединения.П ри этом соосаждаются и следы определяемого иона. Таким образом, получивщийся осадок играет роль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rebuchet MS"/>
              </a:rPr>
              <a:t>коллектора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, т.е. собирателя определенных ионов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0" name="TextBox 11"/>
          <p:cNvSpPr/>
          <p:nvPr/>
        </p:nvSpPr>
        <p:spPr>
          <a:xfrm>
            <a:off x="714240" y="5929200"/>
            <a:ext cx="721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rebuchet MS"/>
              </a:rPr>
              <a:t>Чем меньше концентрация обнаруживаемого иона в растворе, тем полнее он сорбируется коллектором!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457200" y="285840"/>
            <a:ext cx="7238880" cy="61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 аналитической практике используют малорастворимые соосадители!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2" name="Скругленный прямоугольник 3"/>
          <p:cNvSpPr/>
          <p:nvPr/>
        </p:nvSpPr>
        <p:spPr>
          <a:xfrm>
            <a:off x="1143000" y="1500120"/>
            <a:ext cx="2357280" cy="35712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неорганические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Скругленный прямоугольник 4"/>
          <p:cNvSpPr/>
          <p:nvPr/>
        </p:nvSpPr>
        <p:spPr>
          <a:xfrm>
            <a:off x="4500720" y="1500120"/>
            <a:ext cx="2357280" cy="35712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органические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TextBox 6"/>
          <p:cNvSpPr/>
          <p:nvPr/>
        </p:nvSpPr>
        <p:spPr>
          <a:xfrm>
            <a:off x="1428840" y="2000160"/>
            <a:ext cx="171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Гидроксиды алюминия и железа и т.д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TextBox 7"/>
          <p:cNvSpPr/>
          <p:nvPr/>
        </p:nvSpPr>
        <p:spPr>
          <a:xfrm>
            <a:off x="4857840" y="2000160"/>
            <a:ext cx="1714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Метилового фиолетового, метилового оранжевого, нафталина и т.д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TextBox 8"/>
          <p:cNvSpPr/>
          <p:nvPr/>
        </p:nvSpPr>
        <p:spPr>
          <a:xfrm>
            <a:off x="1071720" y="3786120"/>
            <a:ext cx="5857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редпочтение отдается органическим соосадителям, которые позволяют выделять определяемые ионы из растворов концентрацией 1:10 13 и характеризуются высокой селективностью, кроме того органические соосадители легче озоляются. Метод соосаждения используется при определении содержания урана в морской воде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0" y="285480"/>
            <a:ext cx="8143920" cy="523800"/>
          </a:xfrm>
          <a:prstGeom prst="rect">
            <a:avLst/>
          </a:prstGeom>
          <a:solidFill>
            <a:srgbClr val="e2a7c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Осадочная сорбция (хроматография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TextBox 4"/>
          <p:cNvSpPr/>
          <p:nvPr/>
        </p:nvSpPr>
        <p:spPr>
          <a:xfrm>
            <a:off x="1071720" y="928800"/>
            <a:ext cx="6072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Основана на различной растворимости осадков, образуемых компонентами анализируемой смеси при соприкосновении с реактивами, нанесенными на дисперсный носитель. Используют главным образом для разделения электролитов (ионов);применительно к анализу неэлектролитов метод мало изучен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9" name="Содержимое 3"/>
          <p:cNvSpPr/>
          <p:nvPr/>
        </p:nvSpPr>
        <p:spPr>
          <a:xfrm>
            <a:off x="0" y="2714760"/>
            <a:ext cx="8143920" cy="520560"/>
          </a:xfrm>
          <a:prstGeom prst="rect">
            <a:avLst/>
          </a:prstGeom>
          <a:solidFill>
            <a:srgbClr val="e2a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Сублимация (возгонка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0" name="TextBox 6"/>
          <p:cNvSpPr/>
          <p:nvPr/>
        </p:nvSpPr>
        <p:spPr>
          <a:xfrm>
            <a:off x="1071720" y="3286080"/>
            <a:ext cx="5786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Используют для разделения  обычно в тех случаях, когда вещество улетучивается при сравнительно низкой температуре, как ,например, хлорид железа (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II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) в токе хлороводорода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Содержимое 3"/>
          <p:cNvSpPr/>
          <p:nvPr/>
        </p:nvSpPr>
        <p:spPr>
          <a:xfrm>
            <a:off x="0" y="4500720"/>
            <a:ext cx="8143920" cy="520560"/>
          </a:xfrm>
          <a:prstGeom prst="rect">
            <a:avLst/>
          </a:prstGeom>
          <a:solidFill>
            <a:srgbClr val="e2a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Дистилляция (отгонка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TextBox 8"/>
          <p:cNvSpPr/>
          <p:nvPr/>
        </p:nvSpPr>
        <p:spPr>
          <a:xfrm>
            <a:off x="1071720" y="5072040"/>
            <a:ext cx="564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Отделяют летучие соединения или вещества, которые легко привести в летучие( фтороводород, оксид углерода (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V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),соединения мышьяка)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0" y="285480"/>
            <a:ext cx="8143920" cy="523800"/>
          </a:xfrm>
          <a:prstGeom prst="rect">
            <a:avLst/>
          </a:prstGeom>
          <a:solidFill>
            <a:srgbClr val="e2a7c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Экстрагирование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TextBox 4"/>
          <p:cNvSpPr/>
          <p:nvPr/>
        </p:nvSpPr>
        <p:spPr>
          <a:xfrm>
            <a:off x="428760" y="857160"/>
            <a:ext cx="7286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Это извлечение вещества из водного раствора органическим растворителем, обладающим ограниченной растворимостью в воде(хлороформом, четыреххлористым углеродом, бензолом).используется лучшая растворимость извлекаемого вещества в органическом растворителе, чем в воде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TextBox 5"/>
          <p:cNvSpPr/>
          <p:nvPr/>
        </p:nvSpPr>
        <p:spPr>
          <a:xfrm>
            <a:off x="428760" y="2214720"/>
            <a:ext cx="7286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о закону  распределения в равновесной системе, состоящей из двух несмешивающихся жидкостей (т.е. двух фаз),имеющих поверхность раздела,отношение концентраций (или активностей) растворенного в них вещества остается (при неизменной температуре)постоянной величиной,называемой </a:t>
            </a:r>
            <a:r>
              <a:rPr b="1" lang="ru-RU" sz="1800" spc="-1" strike="noStrike">
                <a:solidFill>
                  <a:srgbClr val="ff0000"/>
                </a:solidFill>
                <a:latin typeface="Trebuchet MS"/>
              </a:rPr>
              <a:t>коэффициентом распределения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Прямоугольник 7"/>
          <p:cNvSpPr/>
          <p:nvPr/>
        </p:nvSpPr>
        <p:spPr>
          <a:xfrm>
            <a:off x="2571840" y="3929040"/>
            <a:ext cx="2786040" cy="571680"/>
          </a:xfrm>
          <a:prstGeom prst="rect">
            <a:avLst/>
          </a:prstGeom>
          <a:solidFill>
            <a:srgbClr val="ffffff"/>
          </a:solidFill>
          <a:ln w="39960">
            <a:solidFill>
              <a:srgbClr val="b23b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rebuchet MS"/>
              </a:rPr>
              <a:t>с</a:t>
            </a:r>
            <a:r>
              <a:rPr b="0" lang="ru-RU" sz="2000" spc="-1" strike="noStrike">
                <a:solidFill>
                  <a:srgbClr val="ff0000"/>
                </a:solidFill>
                <a:latin typeface="Trebuchet MS"/>
              </a:rPr>
              <a:t>1/</a:t>
            </a:r>
            <a:r>
              <a:rPr b="0" lang="ru-RU" sz="4400" spc="-1" strike="noStrike">
                <a:solidFill>
                  <a:srgbClr val="ff0000"/>
                </a:solidFill>
                <a:latin typeface="Trebuchet MS"/>
              </a:rPr>
              <a:t>с</a:t>
            </a:r>
            <a:r>
              <a:rPr b="0" lang="ru-RU" sz="2000" spc="-1" strike="noStrike">
                <a:solidFill>
                  <a:srgbClr val="ff0000"/>
                </a:solidFill>
                <a:latin typeface="Trebuchet MS"/>
              </a:rPr>
              <a:t>2=</a:t>
            </a:r>
            <a:r>
              <a:rPr b="0" lang="ru-RU" sz="2800" spc="-1" strike="noStrike">
                <a:solidFill>
                  <a:srgbClr val="ff0000"/>
                </a:solidFill>
                <a:latin typeface="Trebuchet MS"/>
              </a:rPr>
              <a:t>а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1/</a:t>
            </a:r>
            <a:r>
              <a:rPr b="0" lang="ru-RU" sz="2800" spc="-1" strike="noStrike">
                <a:solidFill>
                  <a:srgbClr val="ff0000"/>
                </a:solidFill>
                <a:latin typeface="Trebuchet MS"/>
              </a:rPr>
              <a:t>а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2</a:t>
            </a:r>
            <a:r>
              <a:rPr b="0" lang="ru-RU" sz="2000" spc="-1" strike="noStrike">
                <a:solidFill>
                  <a:srgbClr val="ff0000"/>
                </a:solidFill>
                <a:latin typeface="Trebuchet MS"/>
              </a:rPr>
              <a:t>=</a:t>
            </a: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TextBox 8"/>
          <p:cNvSpPr/>
          <p:nvPr/>
        </p:nvSpPr>
        <p:spPr>
          <a:xfrm>
            <a:off x="428760" y="4549680"/>
            <a:ext cx="7215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Для экстрагирования подбирают такой органический растворитель, в котором определяемое вещество растворяется, а другие компоненты смеси практически не растворяются. Смесь двух жидкостей и растворенного вещества встряхивают, после чего оставляют стоять до появления резкой границы раздела между жидкостями. Из полученного экстракта определяемое вещество выделяют выпариванием, перегонкой или кристаллизацией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457200" y="285840"/>
            <a:ext cx="7238880" cy="61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Для концентрирования ионов методом ионного обмена используют так называемые ионообменные смолы(иониты).одни из них поглощают из раствора катионы и называются </a:t>
            </a:r>
            <a:r>
              <a:rPr b="0" lang="ru-RU" sz="2000" spc="-1" strike="noStrike">
                <a:solidFill>
                  <a:srgbClr val="ff0000"/>
                </a:solidFill>
                <a:latin typeface="Trebuchet MS"/>
              </a:rPr>
              <a:t>катионитами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, другие сорбируют анионы и именуются </a:t>
            </a:r>
            <a:r>
              <a:rPr b="0" lang="ru-RU" sz="2000" spc="-1" strike="noStrike">
                <a:solidFill>
                  <a:srgbClr val="ff0000"/>
                </a:solidFill>
                <a:latin typeface="Trebuchet MS"/>
              </a:rPr>
              <a:t>анионитами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rebuchet MS"/>
              </a:rPr>
              <a:t>Катиониты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содержат активные функциональные группы-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O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?-COOH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или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–OH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(фенольная группа),которые прочно связаны со скелетом смолы. Подвижными,т.е. обменными, остаются только ионы водорода этих групп (Н-форма катионита)или заместившие их катионы (солевая форма)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У </a:t>
            </a:r>
            <a:r>
              <a:rPr b="0" lang="ru-RU" sz="2000" spc="-1" strike="noStrike">
                <a:solidFill>
                  <a:srgbClr val="ff0000"/>
                </a:solidFill>
                <a:latin typeface="Trebuchet MS"/>
              </a:rPr>
              <a:t>анионитов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обменными являются гидроксид-ионы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TextBox 3"/>
          <p:cNvSpPr/>
          <p:nvPr/>
        </p:nvSpPr>
        <p:spPr>
          <a:xfrm>
            <a:off x="1500120" y="4572000"/>
            <a:ext cx="5015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rebuchet MS"/>
              </a:rPr>
              <a:t>Ионный обмен подчиняется закону действующих масс и происходит в эквивалентных количествах!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5500440" y="2214720"/>
            <a:ext cx="3429000" cy="64296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 fontScale="4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rebuchet MS"/>
              </a:rPr>
              <a:t>Спасибо за внимание!</a:t>
            </a: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91" name="Picture 2" descr=""/>
          <p:cNvPicPr/>
          <p:nvPr/>
        </p:nvPicPr>
        <p:blipFill>
          <a:blip r:embed="rId1"/>
          <a:stretch/>
        </p:blipFill>
        <p:spPr>
          <a:xfrm>
            <a:off x="291960" y="798480"/>
            <a:ext cx="489600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Box 3"/>
          <p:cNvSpPr/>
          <p:nvPr/>
        </p:nvSpPr>
        <p:spPr>
          <a:xfrm>
            <a:off x="5357880" y="785880"/>
            <a:ext cx="3497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Качественный анализ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– раздел аналитической химии, посвященный установлению качественного состава веществ, то есть обнаружению элементов и образуемых ими ионов, входящих в состав и простых, и сложных веществ. Делают это с помощью химических реакций, характерных для данного катиона или аниона, позволяющих обнаружить их как в индивидуальных веществах, так и в смесях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268200" y="695160"/>
            <a:ext cx="47484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57200" y="428400"/>
            <a:ext cx="7238880" cy="60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b23b7e"/>
                </a:solidFill>
                <a:latin typeface="Trebuchet MS"/>
              </a:rPr>
              <a:t>Химические реакции, пригодные для качественного анализа, должны сопровождаться заметным внешним эффектом. Это может быть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ыделение газ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зменение окраски раствор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ыпадение осадк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астворение осадк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бразование кристаллов характерной формы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457200" y="428400"/>
            <a:ext cx="7238880" cy="60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Прямоугольник 6"/>
          <p:cNvSpPr/>
          <p:nvPr/>
        </p:nvSpPr>
        <p:spPr>
          <a:xfrm>
            <a:off x="500040" y="500040"/>
            <a:ext cx="7215120" cy="571680"/>
          </a:xfrm>
          <a:prstGeom prst="rect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Методы качественного анализа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Стрелка вниз 7"/>
          <p:cNvSpPr/>
          <p:nvPr/>
        </p:nvSpPr>
        <p:spPr>
          <a:xfrm>
            <a:off x="1214280" y="1143000"/>
            <a:ext cx="214560" cy="928800"/>
          </a:xfrm>
          <a:prstGeom prst="downArrow">
            <a:avLst>
              <a:gd name="adj1" fmla="val 50000"/>
              <a:gd name="adj2" fmla="val 49942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Стрелка вниз 10"/>
          <p:cNvSpPr/>
          <p:nvPr/>
        </p:nvSpPr>
        <p:spPr>
          <a:xfrm>
            <a:off x="4071960" y="1143000"/>
            <a:ext cx="214200" cy="928800"/>
          </a:xfrm>
          <a:prstGeom prst="downArrow">
            <a:avLst>
              <a:gd name="adj1" fmla="val 50000"/>
              <a:gd name="adj2" fmla="val 50026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Стрелка вниз 12"/>
          <p:cNvSpPr/>
          <p:nvPr/>
        </p:nvSpPr>
        <p:spPr>
          <a:xfrm>
            <a:off x="6715080" y="1143000"/>
            <a:ext cx="214200" cy="928800"/>
          </a:xfrm>
          <a:prstGeom prst="downArrow">
            <a:avLst>
              <a:gd name="adj1" fmla="val 50000"/>
              <a:gd name="adj2" fmla="val 50026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Овал 14"/>
          <p:cNvSpPr/>
          <p:nvPr/>
        </p:nvSpPr>
        <p:spPr>
          <a:xfrm>
            <a:off x="214200" y="2143080"/>
            <a:ext cx="2214720" cy="714600"/>
          </a:xfrm>
          <a:prstGeom prst="ellips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химические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Овал 17"/>
          <p:cNvSpPr/>
          <p:nvPr/>
        </p:nvSpPr>
        <p:spPr>
          <a:xfrm>
            <a:off x="3071880" y="2143080"/>
            <a:ext cx="2214360" cy="714600"/>
          </a:xfrm>
          <a:prstGeom prst="ellips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Физическо- химические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Овал 18"/>
          <p:cNvSpPr/>
          <p:nvPr/>
        </p:nvSpPr>
        <p:spPr>
          <a:xfrm>
            <a:off x="5786280" y="2143080"/>
            <a:ext cx="2214720" cy="714600"/>
          </a:xfrm>
          <a:prstGeom prst="ellips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физические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TextBox 19"/>
          <p:cNvSpPr/>
          <p:nvPr/>
        </p:nvSpPr>
        <p:spPr>
          <a:xfrm>
            <a:off x="285840" y="3000240"/>
            <a:ext cx="2071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методы,  основанные  на  использовани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химических свойств исследуемых веществ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TextBox 20"/>
          <p:cNvSpPr/>
          <p:nvPr/>
        </p:nvSpPr>
        <p:spPr>
          <a:xfrm>
            <a:off x="3000240" y="2928960"/>
            <a:ext cx="25005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течение  реакции  фиксируется  измерением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определенного физического свойства исследуемого  раствора.  К  этим  методам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относятся полярография, хроматография и др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TextBox 21"/>
          <p:cNvSpPr/>
          <p:nvPr/>
        </p:nvSpPr>
        <p:spPr>
          <a:xfrm>
            <a:off x="5786280" y="2857680"/>
            <a:ext cx="2143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основаны   на   изучении    физических    свойств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анализируемого   вещества.   К   этим   методам   относятся    спектральный,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рентгеноструктурный, масс-спектрометрический анализы и др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57200" y="357120"/>
            <a:ext cx="7238880" cy="60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В зависимости от того, с каким количеством вещества проводят аналитические реакции, различают следующие методы качественного анализа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b23b7e"/>
                </a:solidFill>
                <a:latin typeface="Trebuchet MS"/>
              </a:rPr>
              <a:t>1) макрометод </a:t>
            </a:r>
            <a:r>
              <a:rPr b="1" lang="ru-RU" sz="2200" spc="-1" strike="noStrike">
                <a:solidFill>
                  <a:srgbClr val="000000"/>
                </a:solidFill>
                <a:latin typeface="Trebuchet MS"/>
              </a:rPr>
              <a:t>– обычно для анализа берется проба от 0,1 до 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1 </a:t>
            </a:r>
            <a:r>
              <a:rPr b="0" i="1" lang="ru-RU" sz="2200" spc="-1" strike="noStrike">
                <a:solidFill>
                  <a:srgbClr val="000000"/>
                </a:solidFill>
                <a:latin typeface="Trebuchet MS"/>
              </a:rPr>
              <a:t>г, которая растворяется в 30-50 мл растворителя. Реакции 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проводят в пробирках с 2-3 </a:t>
            </a:r>
            <a:r>
              <a:rPr b="0" i="1" lang="ru-RU" sz="2200" spc="-1" strike="noStrike">
                <a:solidFill>
                  <a:srgbClr val="000000"/>
                </a:solidFill>
                <a:latin typeface="Trebuchet MS"/>
              </a:rPr>
              <a:t>мл полученного раствора;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b23b7e"/>
                </a:solidFill>
                <a:latin typeface="Trebuchet MS"/>
              </a:rPr>
              <a:t>2) микрометод </a:t>
            </a:r>
            <a:r>
              <a:rPr b="1" lang="ru-RU" sz="2200" spc="-1" strike="noStrike">
                <a:solidFill>
                  <a:srgbClr val="000000"/>
                </a:solidFill>
                <a:latin typeface="Trebuchet MS"/>
              </a:rPr>
              <a:t>– масса анализируемого вещества колеблется 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от 0,001 до 0,01 </a:t>
            </a:r>
            <a:r>
              <a:rPr b="0" i="1" lang="ru-RU" sz="2200" spc="-1" strike="noStrike">
                <a:solidFill>
                  <a:srgbClr val="000000"/>
                </a:solidFill>
                <a:latin typeface="Trebuchet MS"/>
              </a:rPr>
              <a:t>г. Реакции проводят капельным методом или 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микрокристаллоскопическим методом, о присутствии определяемого иона судят по форме кристаллов, которые рассматриваются в микроскоп;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b23b7e"/>
                </a:solidFill>
                <a:latin typeface="Trebuchet MS"/>
              </a:rPr>
              <a:t>3) полумикрометод </a:t>
            </a:r>
            <a:r>
              <a:rPr b="1" lang="ru-RU" sz="2200" spc="-1" strike="noStrike">
                <a:solidFill>
                  <a:srgbClr val="000000"/>
                </a:solidFill>
                <a:latin typeface="Trebuchet MS"/>
              </a:rPr>
              <a:t>– анализ проводят с количеством 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вещества от 0,01 до 0,1 </a:t>
            </a:r>
            <a:r>
              <a:rPr b="0" i="1" lang="ru-RU" sz="2200" spc="-1" strike="noStrike">
                <a:solidFill>
                  <a:srgbClr val="000000"/>
                </a:solidFill>
                <a:latin typeface="Trebuchet MS"/>
              </a:rPr>
              <a:t>г. Объем раствора пробы составляет 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0,1–2 </a:t>
            </a:r>
            <a:r>
              <a:rPr b="0" i="1" lang="ru-RU" sz="2200" spc="-1" strike="noStrike">
                <a:solidFill>
                  <a:srgbClr val="000000"/>
                </a:solidFill>
                <a:latin typeface="Trebuchet MS"/>
              </a:rPr>
              <a:t>мл. Позволяет уменьшить расход реактивов, избежать загрязнение воздуха лаборатории вредными газами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57200" y="357120"/>
            <a:ext cx="7238880" cy="60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rebuchet MS"/>
              </a:rPr>
              <a:t>Среди микроаналитических методов различают кроме того ,</a:t>
            </a:r>
            <a:r>
              <a:rPr b="0" lang="ru-RU" sz="2100" spc="-1" strike="noStrike">
                <a:solidFill>
                  <a:srgbClr val="b23b7e"/>
                </a:solidFill>
                <a:latin typeface="Trebuchet MS"/>
              </a:rPr>
              <a:t>ультрамикроанализ</a:t>
            </a:r>
            <a:r>
              <a:rPr b="0" lang="ru-RU" sz="21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ru-RU" sz="2100" spc="-1" strike="noStrike">
                <a:solidFill>
                  <a:srgbClr val="b23b7e"/>
                </a:solidFill>
                <a:latin typeface="Trebuchet MS"/>
              </a:rPr>
              <a:t>субмикроанализ и субультрамикроанализ</a:t>
            </a:r>
            <a:r>
              <a:rPr b="0" lang="ru-RU" sz="2100" spc="-1" strike="noStrike">
                <a:solidFill>
                  <a:srgbClr val="000000"/>
                </a:solidFill>
                <a:latin typeface="Trebuchet MS"/>
              </a:rPr>
              <a:t>. Эти методы стали интенсивно развиваться в связи с успехами радиохимии и получением изотопов лабораторным синтезом.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rebuchet MS"/>
              </a:rPr>
              <a:t>В </a:t>
            </a:r>
            <a:r>
              <a:rPr b="0" lang="ru-RU" sz="2100" spc="-1" strike="noStrike">
                <a:solidFill>
                  <a:srgbClr val="ff0000"/>
                </a:solidFill>
                <a:latin typeface="Trebuchet MS"/>
              </a:rPr>
              <a:t>1995г. </a:t>
            </a:r>
            <a:r>
              <a:rPr b="0" lang="ru-RU" sz="2100" spc="-1" strike="noStrike">
                <a:solidFill>
                  <a:srgbClr val="000000"/>
                </a:solidFill>
                <a:latin typeface="Trebuchet MS"/>
              </a:rPr>
              <a:t>Секция аналитической химии Международного союза по чистой и прикладной химии приняла новую классификацию и номенклатуру методов анализа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000080" y="3429000"/>
          <a:ext cx="6095880" cy="3715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1000080" y="3786120"/>
          <a:ext cx="6095880" cy="37152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стар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нов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1000080" y="4067280"/>
          <a:ext cx="6095880" cy="22194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Макроанали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Грамм-мет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олумикроанали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антиграмм-мет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икроанали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иллиграм-мет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льтрамикроанали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икрограмм-мет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убмикроанали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анограмм-мет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убультрамикроанали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икограмм-мет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5429160" y="357120"/>
            <a:ext cx="3286080" cy="585792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 fontScale="9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Для проведения качественного анализа неорганического вещества, как правило, его переводят в раствор, и практически задача сводится к обнаружению катионов и анионов. Очень редко в анализе необходима идентификация вещества, т. е. подтверждение уже известного состава с помощью химических реакций и определение присущих веществу физических констант (частота и интенсивность полос поглощения в различных спектрах, плотность и т. д.). В этом случае и если состав анализируемого раствора несложен, можно проводить анализ </a:t>
            </a:r>
            <a:r>
              <a:rPr b="0" lang="ru-RU" sz="1600" spc="-1" strike="noStrike">
                <a:solidFill>
                  <a:srgbClr val="f2f2f2"/>
                </a:solidFill>
                <a:latin typeface="Trebuchet MS"/>
              </a:rPr>
              <a:t>дробным методом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. Если имеют дело с неизвестным и сложным составом анализируемого раствора, то для обнаружения входящих в него катионов и анионов применяют </a:t>
            </a:r>
            <a:r>
              <a:rPr b="0" lang="ru-RU" sz="1600" spc="-1" strike="noStrike">
                <a:solidFill>
                  <a:srgbClr val="f2f2f2"/>
                </a:solidFill>
                <a:latin typeface="Trebuchet MS"/>
              </a:rPr>
              <a:t>систематический метод анализа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420840" y="798480"/>
            <a:ext cx="46875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57200" y="357120"/>
            <a:ext cx="7238880" cy="60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b23b7e"/>
                </a:solidFill>
                <a:latin typeface="Trebuchet MS"/>
              </a:rPr>
              <a:t>Устранить мешающие компоненты можно тремя способами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Скругленный прямоугольник 3"/>
          <p:cNvSpPr/>
          <p:nvPr/>
        </p:nvSpPr>
        <p:spPr>
          <a:xfrm>
            <a:off x="642960" y="1428840"/>
            <a:ext cx="2143080" cy="64296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маскирование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Скругленный прямоугольник 4"/>
          <p:cNvSpPr/>
          <p:nvPr/>
        </p:nvSpPr>
        <p:spPr>
          <a:xfrm>
            <a:off x="2857680" y="2357280"/>
            <a:ext cx="2357280" cy="64296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разделение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Скругленный прямоугольник 5"/>
          <p:cNvSpPr/>
          <p:nvPr/>
        </p:nvSpPr>
        <p:spPr>
          <a:xfrm>
            <a:off x="5286240" y="1428840"/>
            <a:ext cx="2428920" cy="64296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концентрирование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TextBox 6"/>
          <p:cNvSpPr/>
          <p:nvPr/>
        </p:nvSpPr>
        <p:spPr>
          <a:xfrm>
            <a:off x="357120" y="2357280"/>
            <a:ext cx="24289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это перевод мешающих компонентов в такую форму, которая не оказывает мешающего влияния. При этом не происходит образования новой фазы, в чём и состоит преимущество этого метода перед разделением. Исключаются операции, связанные с отделением фаз друг от друга.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TextBox 7"/>
          <p:cNvSpPr/>
          <p:nvPr/>
        </p:nvSpPr>
        <p:spPr>
          <a:xfrm>
            <a:off x="3214800" y="3071880"/>
            <a:ext cx="17143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это операция (процесс), в результате которой компоненты, составляющие исходную смесь, отделяются друг от друга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Прямоугольник 8"/>
          <p:cNvSpPr/>
          <p:nvPr/>
        </p:nvSpPr>
        <p:spPr>
          <a:xfrm>
            <a:off x="5357880" y="2214720"/>
            <a:ext cx="2357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операция (процесс), в результате которой повышается отношение концентрации или количества микрокомпонентов к концентрации или количеству макрокомпонентов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457200" y="357120"/>
            <a:ext cx="7238880" cy="60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Методы основаны на использовании различий в свойствах компонентов анализируемой системы, таких как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b23b7e"/>
                </a:solidFill>
                <a:latin typeface="Trebuchet MS"/>
              </a:rPr>
              <a:t>растворимость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b23b7e"/>
                </a:solidFill>
                <a:latin typeface="Trebuchet MS"/>
              </a:rPr>
              <a:t>температур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b23b7e"/>
                </a:solidFill>
                <a:latin typeface="Trebuchet MS"/>
              </a:rPr>
              <a:t>скорость движения частиц во внешнем электрическом поле и др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0" name="Picture 10" descr=""/>
          <p:cNvPicPr/>
          <p:nvPr/>
        </p:nvPicPr>
        <p:blipFill>
          <a:blip r:embed="rId1"/>
          <a:stretch/>
        </p:blipFill>
        <p:spPr>
          <a:xfrm>
            <a:off x="3214800" y="1714680"/>
            <a:ext cx="2286000" cy="16761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2" descr=""/>
          <p:cNvPicPr/>
          <p:nvPr/>
        </p:nvPicPr>
        <p:blipFill>
          <a:blip r:embed="rId2"/>
          <a:stretch/>
        </p:blipFill>
        <p:spPr>
          <a:xfrm>
            <a:off x="5000760" y="3286080"/>
            <a:ext cx="264780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2-02-04T04:41:53Z</dcterms:modified>
  <cp:revision>33</cp:revision>
  <dc:subject/>
  <dc:title>Методы качественного химического анализа</dc:title>
</cp:coreProperties>
</file>