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78A-F5B7-4061-AC98-CD2863D7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1EB-B665-48B5-AEFE-69911A6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875-E023-4C13-86B6-30082121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159-F267-41F3-9F4B-9751DDC5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9A90-CA35-4BEB-85E2-189CB407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9227-55B3-4434-8772-E1CCB0D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537-1263-4204-A0B4-8B4923BE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7EEA-D6DD-49A2-81AF-B42E28C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DBC4-1B7C-4323-9818-8DFE6C85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AB75-7BBC-4BED-A794-ABC31BE5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1657-8052-4FCE-A779-D1BB47B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BDF-55F7-4EE8-8CA1-AE794212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F842-053E-4448-8CEF-8BEA228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5EBB-D75C-4256-B16D-A5233BF0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38B2-7CA7-4D54-9498-A6EB6262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60E3-8972-4BD8-8091-C645EAFA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21BE-D56B-4128-BECB-FE75C1F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3E1-0D72-419F-8F75-EABDA02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71F-0008-4794-BEEE-FEE078A2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B39-21E5-4865-B207-6BECA0A5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592-8347-46D3-903A-C409D668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3B8-160C-4192-89CD-F5C4CA99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027-1F53-4EA6-911F-00069D7E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CA5-0A5C-4B50-BB99-228C621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116-92EC-4879-BFB4-1ED1476CD6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A27-94C6-4EAC-A19A-9E387EAE17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Спектрофотометрический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анализ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рименение спектрофотометрического анализ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ктрофотометрическое определение марганца в виде перманганата по калибровочному граф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ение основано на окислении 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ерсульфатом аммония, в присутствии нитрата серебра как катализатора, до малиново-фиолетовых перманганат-ион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риготовление эталонного раствора соли марганц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начала готовят точно 0,1 н раствор перманганата калия. Затем 9,1 мл этого раствора переносят в мерную колбу вместимостью 100 мл, разбавляют водой до метки и перемешивают. Полученный эталонный раствор содержит 0,1 мг марганца в 1 м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Построение калибровочного графика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есть мерных колб вместимостью 50 мл перенести пипеткой соответственно 10, 12, 14, 16, 16, 18 и 20 мл эталонного раствора перманганата калия. Добавить во все колбы по 1 мл концентрированной серной кислоты, довести объем раствора в каждой колбе дистиллированной водой до метки, тщательно перемешать. Измерить оптические плотности всех полученных растворов при длине волн 526 нм в кювете длиной 2 см. В качестве нулевого раствора использовать дистиллированную воду. По найденным величинам построить калибровочный граф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3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dbbd71"/>
                </a:solidFill>
                <a:uFillTx/>
                <a:latin typeface="Arial"/>
              </a:rPr>
              <a:t>Ход определения марганца в раствор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рную колбу вместимостью 50 мл поместить 5 мл исследуемого раствора, содержащего 0,05- 1,0 мг марганца, добавить 1 мл конц. серной кислоты, 0,5 мл фосфорной кислоты и 30 мл дистиллированной воды. Тщательно перемешать полученный раствор, прибавить к нему 1 мл раствора с массовой долей нитрата серебра 0,1% и 5 мл свежеприготовленного раствора с массовой долей  персульфата аммония 25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гревать смесь на водяной бане при 70-80 С до тех пор, пока малиново-фиолетовая окраска раствора не перестанет усиливаться. Затем содержимое колбы охладить, довести объем раствора в колбе дистиллированной водой до метки, тщательно перемеш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раствору постоять 10-15 минут и измерить оптическую плотность его на нерегистрирующем спектрофотометре при длине волны 526 нм в кювете длиной 2 см. В качестве нулевого раствора использовать дистиллированную в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 марганца найти по калибровочному графи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bbd71"/>
                </a:solidFill>
                <a:uFillTx/>
                <a:latin typeface="Arial"/>
              </a:rPr>
              <a:t>Сущность анализа. Область его применения</a:t>
            </a:r>
            <a:r>
              <a:rPr b="0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ктрофотометрический анализ основан на законе светопоглощения Бугера- Ламберта- Бера, но объединяет главным образом методы, основанные на измерении поглощения растворами монохроматических излучений. Преимущество использования монохроматических излучений состоит в том, что при этом повышается точность определений, измерение светопоглощения в узком участке спектра позволяет установить более строгую пропорциональность м-у концентрацией определяемого компонента и показателями прибора- спектрофотоме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пользование монохроматического излучения дает возможность выбрать участок спектра, где светопоглощение системы мало зависит от колебаний рН, солевого состава и друг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ование монохроматического излучения позволяет проводить измерения в присутствии посторонних веществ, поглощающих свет в областях спектра, близких к максимуму поглощения определяемого компонента. Применение монохроматического излучения повышает специфичность абсорбционных фотометрических определ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пектрофотометрических определениях используют реакции, дающие соединения с большими поглощающими свойствами, преимущественно- реакции комплексообразования. Поэтому спектрофотометрические определения обычно складываются из двух стадий: выполнения химической реакции и измерения поглощения полученного раствора на спектрофотомет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спектрофотометров позволяет измерять как пропускание(Т), так и оптическую плотность раствора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 Поэтому для вычисления концентрации определяемого вещества используют несколько мет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фический метод основан на использовании калибровочного графика, построенного в координатах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-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Сначала измеряют оптическую плотность эталонных растворов при определенной длине волны, а затем – анализируемого раствора. По калибровочному графику находят концентрацию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анализируемый раствор подчиняется закону Бугера- Ламберта-Бера, то готовят только 2 раствора: эталонный с концентрацией вещества Сэ и исследуемый с концентрацией Сх. По результатам измерения вычисляют концентрацию определяемого веществ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х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Сэ/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x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 – оптическая плотность анализируемого и эталонного раство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Основные типы спектрофотометров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 аппаратуры отечественного производства наиболее распространены спектрофотометры типа СФ-4, СФ-4А, СФД-2, СФ-5, СФ-16, и СФ-26, а также саморегистрирующие спектрофотометры СФ-2М, СФ-8, СФ-9, СФ-10и СФ-1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06-28T08:09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