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CB0F-6F2F-4A8B-AF7A-0EA14D478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BD91-07CB-4476-A05E-36BCEA54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231D-A036-4E6C-83B3-863F25941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918A-316B-4D59-9F3B-FA66F8A5A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5FB2-165A-4E09-AFCD-6D9FDEB6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5294-239B-48AD-B0FE-8317A110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A3F3-BDB6-47D6-AA22-47408A9A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60A2-735F-4C1E-A843-4F269C6C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9CDE-FE6E-4C34-8FB6-7BA8A9F5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94BC-5939-46C2-8F70-CF6DD2EE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7013-53B2-4B6A-A525-4FBB6EA5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D1CF-8DF9-4BC4-A22B-15F03F57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A3AF-1714-4558-A99B-624BF451E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153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Политические партии Республики Казахст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14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Демократическая партия Казахстана "АК ЖОЛ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редседатель партии – Байменов Алихан Мухамедьевич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артия зарегистрирована 3 апреля 2002 года. Численность партии  составляет 175 862 челове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Цели партии: независимый, процветающий,  демократический и свободный Казахстан. Фундаментальные ценности:  демократия, независимость, свобода, справедлив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На выборах в  Мажилис в 2004 году партия получила 12.04% голосов. В Мажилисе третьего  созыва партия имела один мандат. По итогам выборов в Мажилис в 2007  году «Ак жол» набрал 3,09% голо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562720" y="228600"/>
            <a:ext cx="342900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Коммунистическая партия Казахста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ервый секретарь партии – Абдильдин Серикболсын Абдильдаеви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артия зарегистрирована 27 августа 1998 года, перерегистрация – 20 марта 2003 года. Численность КПК составляет 54 246 челове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артия имеет свои отделения во всех областях республи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Своими основными целями партия считает: создание условий для построения в республике общества свободы и социальной справедливости, основанного на принципах научного социализма; построение коммунистического общественного стро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В выборах в Мажилис в 2004 году Коммунистическая партия Казахстана приняла участие в составе избирательного блока «Народный оппозиционный союз коммунистов и ДВК», набравшего по партийному списку 3,44% голосов. В выборах в Мажилис в 2007 году партия не участвова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943600" y="152280"/>
            <a:ext cx="213372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о материалам сайта эл.правительства Р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http://e.gov.kz/wps/portal/Content?contentPath=/library2/1_kazakhstan/kr/politika&amp;lang=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Народно Демократическая Партия "НУР ОТАН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редседатель - Назарбаев Нурсултан Абишевич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1-й  заместитель председателя - Нигматулин Нурлан Зайруллаевич.  Республиканская политическая партия «Отан» была учреждена в январе 1999  года, а 12 февраля того же года зарегистрирована в Министерстве юстиции  Республики Казахста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«Нур Отан» имеет филиалы во всех областях Казахстана, городах Астане и  Алмат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Главными целями партия провозглашает активное содействие  претворению в жизнь экономических и политических реформ, направленных  на дальнейшую демократизацию общества; повышение жизненного уровня  граждан; утверждение социальной справедливости и сохранение  стабильности в стране; укрепление межнационального и  межконфессионального согласия; воспитание у граждан чувств патриотизма  и ответственности за всестороннее и гармоничное развитие Республики  Казахстан. В Мажилисе «Нур Отан» обладает парламентским большинством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о итогам выборов в Мажилис в 2007 году «Нур Отан» набрал 88,41%  голосов, и от партии в нижнюю палату Парламента было избрано 98  депута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17650" t="0" r="16472" b="0"/>
          <a:stretch/>
        </p:blipFill>
        <p:spPr>
          <a:xfrm>
            <a:off x="7010280" y="0"/>
            <a:ext cx="21337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Демократическая партия Казахстана «АЗАТ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редседатель - Абилов Булат Мукишевич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артия была создана 29 апреля 2005 года в результате разделения с ДПК «АК ЖОЛ» и зарегистрирована 17 марта 2006 года под названием "Настоящий АК ЖОЛ". Количество членов составляет – 97 157 человек. Партия имеет свои филиалы во всех областях, городах Астане и Алма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«АЗАТ» - партия среднего класса. Цели партии – строительство демократического, светского, правового, социального государства и открытого общества. Консолидация усилий граждан в борьбе за построение независимого, процветающего, демократического, свободного Казахстана. 23 июня 2007 года на 3 съезде ДПК "Настоящий Ак Жол" было принято решение о присоединении к Общенациональной социал демократической партии. 20 октября 2007 года на IV-м Съезде ДПК "Настоящий АК ЖОЛ" было принято решение об отмене ранее принятого постановления III-го съезда ДПК "Настоящий АК ЖОЛ" о присоединении к ОСДП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На втором заседании IV-го Съезда 29 февраля 2008 года было принято решение о переименовании партиии "Настоящий АК ЖОЛ" в ДПК "Азат", под которым она была перерегистрирована 11 апреля 2008 г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0" y="457200"/>
            <a:ext cx="1486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Партия «Руханият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16 марта 2010 года партию возглавил Серикжан Есенгосович Мамбеталин. Партия приняла новую программу и называется "Партия Зеленых Руханият"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артия была зарегистрирована 6 октября 2003 года. Численность партии составляет 72 тыс.челове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Филиалы партии действуют в областных центрах, городах Астане и Алмат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Своими главными задачами партия видит подъем экономики, решение социальных вопросов, развитие высоконравственного и духовно богатого общества. По итогам выборов в Мажилис в 2004 году партия получила 0.44%, в Мажилисе третьего созыва депутатов не имел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о итогам выборов в Мажилис в 2007 году партия «Руханият» набрала 0,37% голо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943600" y="228600"/>
            <a:ext cx="236232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600" y="18288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Коммунистическая Народная партия Казахста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ервый секретарь – Косарев Владислав Борисови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21 июня 2004 года партия прошла государственную регистрацию. На момент регистрации в рядах партии насчитывалось 90 тыс. челове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Согласно политической платформе партии, в основе деятельности КНПК лежит марксистко-ленинская идеология, адаптированная к новым условиям общественного развит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о итогам выборов в Мажилис в 2004 году партия получила 1.98% голосов. В Мажилисе третьего созыва депутатов не имел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о итогам выборов в Мажилис в 2007 году КНПК набрала 1,29% голос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19920" y="228600"/>
            <a:ext cx="2895480" cy="15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-3049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Общенациональная социал-демократическая партия (ОСДП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редседатель -Туякбай Жармахан Айтбайул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Заместитель председателя: Косанов Амиржан Сагидрахманович Партия создана 10 сентября 2006 года. Зарегистрирована 25 января 2007 года. Количество членов – 140 тыс. челове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артия имеет свои филиалы во всех областях, городах Астана и Алмат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Общенациональная социал-демократическая партия ставит перед собой задачи построения демократического, правового, социального государства, инновационной экономики, осуществления новой гуманитарной полит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о итогам выборов в Мажилис в 2007 году Общенациональная социал-демократическая партия набрала 4,54 % голос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191360" y="0"/>
            <a:ext cx="19526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-1522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Казахстанская социал-демократическая партия "Ауыл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редседатель партии – Калиев Гани Алимови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артия зарегистрирована 1 марта 2002 года. 2 апреля 2003 года партия прошла перерегистрацию. Численность партии на момент регистрации составляла 61 043 челове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артия имеет структурные подразделения во всех областях Казахста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Своими целями партия декларирует усиление государственного регулирования и поддержку агросектора; защиту интересов тружеников села; активное содействие претворению в жизнь экономических и политических реформ, направленных на дальнейшую демократизацию общества; осуществление обоснованных форм рыночных отношений во всех отраслях экономики; повышение жизненного уровня гражда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артия участвовала в парламентских выборах 2004 года, однако в Мажилисе третьего созыва не получила ни одного депутатского мандата. По итогам выборов в Мажилис в 2007 году «Ауыл» набрал 1,51% голо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629400" y="155520"/>
            <a:ext cx="251460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522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Демократическая партия "Әділет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редседатель партии – Нарикбаев Максут Султанович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Зарегистрирована 14 июня 2004 года. Численность партии составляет 70 тыс. челове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артия строится по территориальному принципу и имеет отделения во всех областях республики и в городах Астане и Алмат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Своей главной задачей партия считает построение в Казахстане правового демократического социального государства, создание эффективной, передовой и развитой экономической системы, формирование гражданского общест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о итогам выборов в Мажилис в 2004 году партия получила 0,76% голосов при голосовании по партийным спискам. В Мажилисе третьего созыва имела одного депутата, избранного по одномандатному округ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8 июля 2007 года на 5 съезде Демократической партии "Әділет" было принято решение о присоединении к Демократической партии Казахстана "АК ЖОЛ"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781680" y="22860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Партия патриотов Казахста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редседатель – Касымов Гани Есенкельдыул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артия  зарегистрирована 4 августа 2000 года, прошла перерегистрацию 21 марта  2003 года. По данным партии в ее составе состоит 172 тыс. человек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Партия декларирует следующие цели: формирование и осуществление  национального возрождения народов Казахстана; построение правового  демократического государства, гражданского общества с рыночной  экономикой; приобщение к участию в управлении государственными и  общественными делами социально активной части общества; обеспечение  устойчивого развития страны; создание высокого качества жизни человека  и уделение приоритетного внимания здоровью гражд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На выборах в  Мажилис в 2004 году партия получила 0.55% голосов и не прошла в  Парламент. По итогам выборов в Мажилис в 2007 году партия набрала 0,78  % голосов. Лидер партии Касымов Г.Е. Указом Президента в 2007 году  назначен депутатом Сената Парламен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172200" y="152280"/>
            <a:ext cx="281952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14:18:42Z</dcterms:created>
  <dc:creator>Ляззат</dc:creator>
  <dc:description/>
  <dc:language>en-US</dc:language>
  <cp:lastModifiedBy>user</cp:lastModifiedBy>
  <dcterms:modified xsi:type="dcterms:W3CDTF">2011-10-19T09:26:18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