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B2993-C711-46BF-A1F3-12BC8B7DC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D43ED-32A0-42AB-BFEB-C7DFA1568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231A2-DFA7-4C79-AAB9-551F628C1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1C0AE-9E7D-4FF8-89E9-4F6ABA897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BC5DE-2BB2-4DCE-B4C4-4264FC5D9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D038E-F221-4648-9C8E-A2D231F87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0D92C-74C5-4B4C-BE61-551214A7F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22A50-F47B-43DE-AB76-BB43A4162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494D7-1B9F-47E8-94FF-A63A30FD3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E5A1F-1062-4054-9BB4-0D296483A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B97DE-1BB3-4F1E-9292-71034DB6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55D90-4CD9-4534-A0CB-878CF5047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71680-E4FB-46B9-97AF-AF5036FF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39CE8-ABE4-4C3B-94ED-26475681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89AEE-8A34-448B-B8D5-A2BAC9063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F0E56-CEA2-4F7D-8FB4-D418158B2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3F843-1259-4F73-A106-15A788FA6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9EFD1-C3A5-4B7F-9F28-2EE6BE33D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F5E16-6AF8-46F2-8703-568BC0908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7B5C3-14C6-4209-9AA6-0A98C2291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60B74-D57F-49CD-A48B-567B50DC8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BE126-EB69-47D5-91E1-3A459558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42671-2233-4B83-8DB4-461A240F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529E0-790E-4A7B-AD67-95432657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B13E-190B-4842-93E5-2ADB0D81034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3DA6-D3A7-4464-B90A-BC1BFC93F4E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71640" y="1698840"/>
            <a:ext cx="712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Корпоративный подоходный налог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769400" y="821520"/>
            <a:ext cx="62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Ставки корпоративного подоходного налог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457200" y="1557360"/>
          <a:ext cx="8217720" cy="4568400"/>
        </p:xfrm>
        <a:graphic>
          <a:graphicData uri="http://schemas.openxmlformats.org/drawingml/2006/table">
            <a:tbl>
              <a:tblPr/>
              <a:tblGrid>
                <a:gridCol w="6314040"/>
                <a:gridCol w="1903680"/>
              </a:tblGrid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д дохода, подлежащего обложению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авка налог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2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огооблагаемый доход налогоплательщика с учетом корректировок, уменьшенный на сумму убытк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огооблагаемый доход налогоплательщика, для которого земля является основным средством производ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ходы, облагаемые у источника выпла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истый доход юридического лица-нерезидента, осуществляющего деятельность в Республике Казахстан через постоянное учреждени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116000" y="259200"/>
            <a:ext cx="714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Для корпоративного подоходного налога налоговым периодом является календарный го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42920" y="1043280"/>
            <a:ext cx="763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Плательщики корпоративного подоходного налога представляют налоговым органам декларацию по корпоративному подоходному налогу не позднее 31 марта года, следующего за отчетным налоговым периодо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 rot="10811400">
            <a:off x="1042560" y="2401920"/>
            <a:ext cx="7634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Декларация по корпоративному подоходному налогу  состоит из декларации и приложений к ней по раскрытию информации об объектах налогообложения и объектах, связанных с налогообложением по корпоративному подоходному налог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042920" y="3996360"/>
            <a:ext cx="76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Корпоративный подоходный налог исчисляется за налоговый период путем применения ставки к налогооблагаемому доходу с учетом корректировок, уменьшенному на сумму убытко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042920" y="5146920"/>
            <a:ext cx="7705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Налогоплательщик осуществляет окончательный расчет (уплату) по корпоративному подоходному налогу по итогам налогового периода не позднее десяти рабочих дней после срока, установленного для сдачи декларац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611280" y="18446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611280" y="32130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611280" y="46530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611280" y="5877000"/>
            <a:ext cx="14292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925360" y="404280"/>
            <a:ext cx="36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Резюме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71640" y="1404000"/>
            <a:ext cx="7297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Корпоративный подоходный налог является одним из наиболее существенных видов налога, уплачиваемых предприятием. Введен Законом РК от 14.02.1991 г. «О подоходном налоге с предприятий, объединений и организаций». Основным объектом налогообложения корпоративным подоходным налогом является налогооблагаемый дохо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68360" y="798480"/>
            <a:ext cx="8207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К плательщикам корпоративного подоходного налога относятс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) юридические лица- резиденты Р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) Национальный Банк Р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) государственные учрежд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) ответы В и 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Е) правильного ответа 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3" dur="2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468360" y="865800"/>
            <a:ext cx="8218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2. Совокупный годовой доход юридического лица – резидента состоит из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А)  доходов, получаемых им в Р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) доходов, получаемых им в РК и за ее пределами в течении налогового пери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С) доходов, получаемых им в течении последних 2 л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D) доходов, от прироста стоимости при реализации зда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Е) доходов, получаемых в странах СН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1" dur="2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11280" y="866160"/>
            <a:ext cx="8136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3. Налогооблагаемый доход – это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А)  совокупный годовой дох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) прибыль плюс другие виды дохо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С) нормы, установленные законодательством Р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D) разница между совокупным годовым доходом и вычет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Е) доход, полученный в течении налогового периода в РК и за рубеж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09" dur="2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539640" y="938520"/>
            <a:ext cx="828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4. Расчет сумм авансовых платежей, подлежащих уплате за период до сдачи декларации по корпоративному подоходному налогу, составляется и предоставляется налогоплательщиком до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А) 1 января года, следующего за отчетны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) 20 января года, следующего за отчетны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С) 1 февраля года, следующего за отчетны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D) 15 февраля года, следующего за отчетны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Е) 10 марта года, следующего за отчетны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7" dur="2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539640" y="1049040"/>
            <a:ext cx="7993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5. Для корпоративного подоходного налога налоговым периодом является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) календарный г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) 12 ме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) 6 ме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) 9 ме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Е) 3ме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5" dur="2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07480" y="835560"/>
            <a:ext cx="207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План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0000" y="2059200"/>
            <a:ext cx="760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 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Основы построения корпоративного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одоходного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ало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000" y="3356640"/>
            <a:ext cx="28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2 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тавки нало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08600" y="4364640"/>
            <a:ext cx="652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3 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орядок исчисления и сроки упла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860840" y="835560"/>
            <a:ext cx="58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Список используемой литератур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 rot="10800000">
            <a:off x="1402920" y="1833480"/>
            <a:ext cx="66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декс РК «О налогах и других обязательных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латежах в бюджет» по состоянию на 01.01.2008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00000" y="20606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900000" y="414972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900000" y="2997360"/>
            <a:ext cx="142920" cy="1425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900000" y="5157720"/>
            <a:ext cx="142920" cy="142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403280" y="285228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урхалиева Д.М. Налоги и налогообложение в Республике Казахстан, Астана – 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03280" y="392544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Ермекбаева Б.Ж., Лесбеков Г.А. Основы налогообложения / учебное пособие. Алматы, 2002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03280" y="4946760"/>
            <a:ext cx="558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Худяков А.И. «Налоговое право РК». Алматы 1999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124000" y="981000"/>
            <a:ext cx="4680000" cy="1079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Корпоративный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подоходный нало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55640" y="3860640"/>
            <a:ext cx="3672000" cy="2089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является прямым налогом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который согласн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Бюджетному Кодекс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подлежит зачислению 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Республиканский бюдже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59280" y="3860640"/>
            <a:ext cx="3600360" cy="2089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был введен Законом Р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от 14.02.1991 г. «О подоходно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налоге с предприятий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объединений и организаций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843280" y="2205000"/>
            <a:ext cx="93672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03640" y="2205000"/>
            <a:ext cx="93672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55640" y="404640"/>
            <a:ext cx="7632720" cy="863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Корпоративный</a:t>
            </a: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подоходный нало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1280" y="2133720"/>
            <a:ext cx="2952720" cy="503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Плательщики налог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508720" y="2133720"/>
            <a:ext cx="2950920" cy="503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Объекты облож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03280" y="2997360"/>
            <a:ext cx="2232000" cy="79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Юридическ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лица – резиденты Р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03280" y="3933720"/>
            <a:ext cx="2232000" cy="1079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Юридическ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лица – нерезиденты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получающие дох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из источников в Р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03280" y="5157720"/>
            <a:ext cx="2232000" cy="1152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Юридические лиц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применяющ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специальн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налоговый режи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16360" y="2997360"/>
            <a:ext cx="3024360" cy="5029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Налогооблагаемый дох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16360" y="3645000"/>
            <a:ext cx="3024360" cy="79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Доход, облагаемый 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источника выпла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16360" y="4581360"/>
            <a:ext cx="3024360" cy="1079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Чистый доход нерезидент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осуществляющего деятельнос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в РК через постоянн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учрежд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123640" y="1268280"/>
            <a:ext cx="208764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11640" y="1268280"/>
            <a:ext cx="266544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55640" y="263700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55640" y="34290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55640" y="342900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5640" y="342900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55640" y="450864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5640" y="4508640"/>
            <a:ext cx="0" cy="115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5640" y="566100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244000" y="2637000"/>
            <a:ext cx="0" cy="57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7740720" y="3213000"/>
            <a:ext cx="503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244000" y="3213000"/>
            <a:ext cx="0" cy="86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7740720" y="4076640"/>
            <a:ext cx="503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44000" y="4076640"/>
            <a:ext cx="0" cy="115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7740720" y="5229360"/>
            <a:ext cx="503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971640" y="692280"/>
            <a:ext cx="7272360" cy="1728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Не являются плательщикам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корпоративного подоходного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налог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3357720"/>
            <a:ext cx="2952720" cy="7189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Национальный Банк РК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932360" y="3357720"/>
            <a:ext cx="3673440" cy="7189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государственные учрежде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08000" y="4941720"/>
            <a:ext cx="4751640" cy="648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некоммерческие организ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195280" y="2421000"/>
            <a:ext cx="208908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2421000"/>
            <a:ext cx="194472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356000" y="2421000"/>
            <a:ext cx="0" cy="25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4360" y="765000"/>
            <a:ext cx="7920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Основным объектом налогообложения корпоративным подоходным  налогом является налогооблагаемый доход, величина которого определяется как разница между совокупны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годовым доходом и вычетами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98400" y="2707560"/>
            <a:ext cx="358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Налогооблагаемый доход =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83080" y="2707560"/>
            <a:ext cx="371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Garamond"/>
              </a:rPr>
              <a:t>Совокупный годовой доход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-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72760" y="2707560"/>
            <a:ext cx="12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Garamond"/>
              </a:rPr>
              <a:t>Вычеты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9640" y="3515400"/>
            <a:ext cx="4037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Совокупный годовой доход юридического лица – резиден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состоит из доходов, подлежащих получению им в РК и за ее пределами в течение налогового периода. В совокупный годовой доход включаются все виды доходов налогоплательщи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2700000" y="2997360"/>
            <a:ext cx="259236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076720" y="3933720"/>
            <a:ext cx="3327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Расходы налогоплательщика, связанные с получением совокупного годового доход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подлежат вычету при определении налогооблагаемого дохо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8720" y="2997360"/>
            <a:ext cx="0" cy="93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-276120" y="836280"/>
            <a:ext cx="981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Вычету подлежат уплаченные в государственны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бюджет налоги в пределах начисленных, кроме: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-461160" y="2275560"/>
            <a:ext cx="1006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) налогов, исключаемых до определения совокупного годового дохода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5280" y="2915280"/>
            <a:ext cx="7559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) корпоративного подоходного налога и налогов на доходы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уплаченных на территории Республики Казахстан и в других государствах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5960" y="4364640"/>
            <a:ext cx="394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) налога на сверхприбыл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9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50920" y="1715400"/>
            <a:ext cx="2735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Garamond"/>
              </a:rPr>
              <a:t>Из налогооблагаемого дохода налогоплательщика подлеж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Garamond"/>
              </a:rPr>
              <a:t>исключению в пределах трех процентов от налогооблагаемого дохода следующие расходы: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067280" y="339480"/>
            <a:ext cx="453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расходы, фактически понесенные налогоплательщиком на содержание объектов социальной сферы, в пределах суммы превышения расходов над доходами, полученными при эксплуатации объектов социальной сфе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067280" y="3146760"/>
            <a:ext cx="45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)  безвозмездно переданное имущество                некоммерческим организация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067280" y="4804560"/>
            <a:ext cx="446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) адресная социальная помощь, предоставленная физическим лица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в соответствии с законодательством  Республики Казахстан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059280" y="3429000"/>
            <a:ext cx="865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116000" y="1125000"/>
            <a:ext cx="0" cy="86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16000" y="1125360"/>
            <a:ext cx="2808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16000" y="4653000"/>
            <a:ext cx="0" cy="12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16000" y="5877000"/>
            <a:ext cx="2808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7:49:01Z</dcterms:created>
  <dc:creator>SamLab.ws</dc:creator>
  <dc:description/>
  <dc:language>en-US</dc:language>
  <cp:lastModifiedBy>к</cp:lastModifiedBy>
  <dcterms:modified xsi:type="dcterms:W3CDTF">2010-10-20T17:12:26Z</dcterms:modified>
  <cp:revision>4</cp:revision>
  <dc:subject/>
  <dc:title>Слайд 1</dc:title>
</cp:coreProperties>
</file>