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6B3-D84A-4DC1-9D1E-D4F1B515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C50-2119-45DD-9587-E137515E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7D7-3DB2-4F36-917B-EA86389C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D0F-613F-4F07-87FC-80ABB83B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1172-C982-4D18-AF4E-185346DD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EB89-BC5B-4EA6-938A-E913EF00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BD37-C9E7-4285-AF04-263BEE21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F7C0-0567-4021-A1E7-85D20F38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1980-D136-4A9A-ABA3-B411F784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D40B-1C77-4AD8-B117-11080485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28AD-9EF7-4DB1-8656-E2910E39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698-092A-4B8A-B396-EC6691A3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8B07-74E9-436E-AC45-153600ED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699B-0B89-468E-AB62-C0F42485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7D86-8C76-4763-893B-73EC69E5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BB33-8D36-44A1-98B6-C1EED777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01F7-7F7A-4327-B611-EC342B6E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8AA98-354E-407C-8049-7ABB018B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5CFF-8EA0-43FD-B28D-144FA65F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30DCB-2007-43CE-94D8-C41885D0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0383-5AC4-4A66-86AA-5B4637F0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11E50-D5C1-4CAA-8B46-8F5CFC0A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456-5C1C-4D2C-8ECD-EE754E71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43BD5-299A-4D5D-A473-819BE51E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1F9A4-BBEE-4957-A070-DABC4101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A8960-F7CF-4E57-BFE0-5A47B2D8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5378-720C-43FF-A2A1-EEAD936A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5079-093D-434A-A37B-6DC7EA02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B0CE-38E0-4C92-9C33-F9D9B2CB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F359-A3E4-4612-97A0-7A8146F6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7011D-1342-4F70-97A8-924EF2CB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6888D-17C6-4DB8-9443-41666665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40E66-B039-4492-9935-3D6D7A4F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2C2-A55D-45C6-8F59-B99F9CF7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FA4B6-4DFD-4491-A443-9FE8E3CB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ABE19-939B-4E40-96E8-0B2E0F9D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E8404-5B65-481A-B086-6B9887BC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BC3D4-60C9-432C-A6D9-D3E2FD4E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1DF1F-BAA4-4CB8-B92D-6B3E5F16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7904B-BBF5-49AC-8347-255B4D9F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73F4B-E8D1-443D-B85C-2D498F8B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0B334-836D-43DF-B23E-98B01DD0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301D5-198A-4AC2-93B7-33377B78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C60-315D-4382-905A-8D1214DA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23AE-1D4E-41F6-AB02-A8B67BDE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6E9-0468-43C2-BDFD-F9584C13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651-655D-44F6-A640-5EFBDDDB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70B-A9D5-43C4-B64D-5CD44B2D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8AFC-2C6D-494A-8A0C-6878AEECC16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AAFF-69C0-4B4B-BA68-AAA513D538D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4224-BF3B-4F2D-89D4-2ECE47020A0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71D1-C0DD-4206-BEC0-761537C1FAC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jl:1026672.0%201001000099.0%20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jl:1008705.1%201001000099.0%20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706320" y="92088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логовый перио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Налоговым периодом по уплате роялти является календарный месяц, за исключением случаев, предусмотренных в пункте 2 настоящей стать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Если среднемесячные платежи за предыдущий квартал по роялти составляют менее тысячи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месячных расчетных показателе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то налоговым периодом является кварта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с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. К специальным платежам и налогам с недропользователей относится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земельный налог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акциз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НДС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социальный налог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доля РК по разделу продукци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2. Роялти- это…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разовый фиксированный платеж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платеж за коммерческое обнаружение месторождений полезных ископаемы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платеж за доход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доля РК по разделу продукци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платеж за право использования недрами в процессе добычи полезных ископаемых и переработки техногенных образований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3.Ставка роялти по общераспространенным полезным ископаемым и подземным водам установлены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в фиксированном процентном выражении за весь период действия контракт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в размере от 1% до 10%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по скользящей шкале в зависимости от объемов добыч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в размере от 0,5% до 2 %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) в размере от 5% до 25%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Налог на сверхприбыль недропользователя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платеж за доход, полученный сверх норматива, установленного Налоговым Кодексом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платеж за коммерческое обнаружение месторождений полезных ископаемы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разовый фиксированный платеж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доля РК по разделу продукц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платеж за право использования недрами в процессе добычи полезных ископаемых и переработки техногенных образован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 Ставка роялти на нерудное сырье для металлургии составля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1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4,5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10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3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3,5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7168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дропользован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логооблажение недропользовател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убък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оял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роки уплаты роял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логовый перио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ес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тератур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логовый Кодекс РК за 2008 г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ропользо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- операции по недропльзованию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– работы, относящиеся к государственному геологическому изучению недр, разведке и добыче, в том числе работы, связанные с разведкой и добычей подземных вод, лечебных грязей, разведкой недр для сброса сточных вод, а также работы по строительству и эксплуатации подземных сооружений, не связанные с добыче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едропользователи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осуществляющие добычу полезных ископаемых до заключения контракта на недропользование, производят отчисления за пользование недрами в доход республиканского бюджета в виде роялти в 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размерах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устанавливаемых Правительством Республики Казахстан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 этом определение объектов обложения и сроков уплаты данных отчислений производится в порядке, установленном настоящим Кодексом для уплаты роял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Налогообложение недропользователей разделяется на две модели: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856880"/>
            <a:ext cx="8215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предусматривает уплату недропользователем налогов и других обязательных платежей, установленных настоящим Кодексом, за исключением доли Республики Казахстан по разделу продукци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предусматривает уплату (передачу) недропользователем доли Республики Казахстан по разделу продукции, а также уплату всех видов налогов и других обязательных платежей в бюджет, установленных настоящим Кодексом, за исключением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нтного налога на экспортируемую сырую нефть, газовый конденсат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оялт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иза на сырую нефть, газовый конденсат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ога на сверхприбыл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емельного налог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ога на имущество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Субъектами 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права недропользования могут быть физические и юридические лица, в том числе иностранные, а также иностранные государства, международные организации.</a:t>
            </a:r>
            <a:br>
              <a:rPr sz="24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циональные недроиспользователи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граждане Республики Казахстан и казахстанские юридические лиц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остранные недропользователи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иностранные граждане, иностранные юридические лица, иностранные государства, международные организа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стоянные недропользователи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лица, право недропльзования которых носит бессрочный характе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ременные недропльзовател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лица, право недропльзования которых ограниченно определенным срок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ъекты недропользо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дропользователь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подрядчик) – гражданин или юридическое лицо, государство и (или) международная организация, получившие право осуществлять операции по недропользованию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оял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ялти уплачивается недропользователем в отдельности по каждому виду добываемых на территории Республики Казахстан полезных ископаемых, независимо от того, были ли они реализованы (отгружены) покупателям или использованы на собственные нужд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роки уплаты роял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ялти по всем видам полезных ископаемых уплачивается не позднее 20 числа месяца, следующего за налоговым период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5:33:37Z</dcterms:created>
  <dc:creator>050208</dc:creator>
  <dc:description/>
  <dc:language>en-US</dc:language>
  <cp:lastModifiedBy>Windows XP Professional SP3</cp:lastModifiedBy>
  <dcterms:modified xsi:type="dcterms:W3CDTF">2011-06-07T18:43:21Z</dcterms:modified>
  <cp:revision>8</cp:revision>
  <dc:subject/>
  <dc:title>Недропользование</dc:title>
</cp:coreProperties>
</file>