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584-14F5-4239-A635-9309A6B4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6E2-0421-4A5D-96FE-3246D37A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FBB-BD0C-45A5-9A11-946E0D38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A48-6990-4C6C-A62A-A61C8F0F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8026-A225-4F05-A6B2-D219FEE9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B59-4CEE-4199-BECF-D43D6CFF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323B-76DA-4718-963C-7E9C938A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CB7C-600D-48B0-AD5D-F048579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BB5D-0766-4F3F-B53D-5B5E78D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48AC-D3B4-47E8-9EF4-3D6FB43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DF7A-D91C-44E2-8AAA-12848D5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694-BB4B-489C-A929-E38D5729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78FE-791F-4C87-A6C1-78952F8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4E99-0A4C-4DD4-88C2-CBC1B8CC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FF89-0E8B-4602-8DBB-60206BB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0C7A-384B-442F-9397-AA106C7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4FD4-0F3F-4D8E-843F-B421CDFD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17E-12D5-4B43-81E7-83502685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FB5-93A5-4FDD-A281-EB789662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2BE-8ADB-4AA7-B307-2A6C353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04D-89F2-4C98-A7FE-22035593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F93-5660-4D9C-8196-387412CC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3B5-5AEB-4268-9EAB-63331D8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0EC-3BC7-4AA2-B43F-AE48E155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BEF7-A52E-4D1E-8B0A-C0C36592F9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651-D21E-4570-AB36-B46EC3D673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400800" cy="817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owerPoint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4000" y="2491920"/>
            <a:ext cx="8820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этой главе мы изучи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имущест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Po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ятие презентаци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типы мультимедийных презентац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рядок создания презентаций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057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резентаци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это уникальный и самый современный на сегодняшний день способ представления информац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 программный продукт, который может содержать текстовые материалы, фотографии, рисунки, слайд-шоу, звуковое оформление и дикторское сопровождение, видеофрагменты и анимацию, трехмерную график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ным отличием презентаций от остальных способов представления информации является их особая насыщенность содержанием и интерактивность, то есть способность определенным образом изменяться и реагировать на действия пользова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ultimedia технолог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ultimedia технолог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ulti – много, media – среда) позволяет одновременно использовать различные способы представления информации: числа, текст, графику, анимацию, видео и зву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ажнейшей особенностью мультимедиа технологии является интерактивность – способность пользователя влиять на работу информационного средст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 преимущества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Power Poin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ак инструментальн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ы для разработки мультимедиа-приложений можно отне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ступность (паке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ерсии 97 и выше сегодня считается стандартным программным обеспечением практически для любого персонального компьютер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гкость в освоении и простоту создания мультимедиа-презентаций (при достаточно широком наборе имеющихся возможностей, в частности, для реализации «оформительских» анимационных эффектов, особенно в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 Point X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сть переноса данных из других приложений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crosoft Offi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позволяет расширить для непрофессионального пользователя возможности подготовки содержательного наполн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50560" y="47628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Преимущества </a:t>
            </a: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Microsoft Power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0872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Основные типы обучающих мультимедийных презентаций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 сценарие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Хорошо подходят для выступления на семинарах, лекциях. С их помощью можно постоянно поддерживать интерес аудитории к представляемой информац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нтерактивны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Позволяют пользователю осваивать материал самостоятельно, опытным и интерактивным путем, что усиливает эффективность обуч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амовыполняющиес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Не столь мощные, как первые два типа. Но их тоже можно применить в целях обучения, чтобы в простой и интересной форме охватить ту или иную тем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рядок создания презентац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Перед созданием презентации на компьютере важно определить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начение презентации, ее тему, примерное количество слайд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представить информацию наиболее удачным образо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держание слайд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703d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афическое оформление каждого слайд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Критерии оценки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Содержание презентац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ытие те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дача материла (обоснованность разделения на слайд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личие и обоснованность графического оформления (фотографий, схем, рисунков, диагра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рамотность излож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орядок создания презентац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личие интересной дополнительной информации по теме проек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сылки на источники информации (в т.ч. ресурсы Интерне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формление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динство дизайна всей презентац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основанность применяемого дизай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динство стиля включаемых в презентацию рисун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ение собственных (авторских) элементов оформл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птимизация граф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основанное использование эффектов мультимедиа: графики, анимации, видео, зву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   Навигация: наличие оглавления, кнопок перемещения по слайдам или гиперссыл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  Доклад на заданную тему с использованием презент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4:12:22Z</dcterms:created>
  <dc:creator>SamLab.ws</dc:creator>
  <dc:description/>
  <dc:language>en-US</dc:language>
  <cp:lastModifiedBy>SamLab.ws</cp:lastModifiedBy>
  <dcterms:modified xsi:type="dcterms:W3CDTF">2009-04-05T15:14:59Z</dcterms:modified>
  <cp:revision>2</cp:revision>
  <dc:subject/>
  <dc:title>Презентация PowerPoint </dc:title>
</cp:coreProperties>
</file>