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F048-09C7-4AD0-A03A-6056C96C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3B02-78E4-4BAD-9305-0DAEB90B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E3023-9E74-4C2D-8345-5D7A585A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DA7A-9B2F-4FD3-A60A-9DF468B1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DD39-7236-4E3C-8CBD-0718AD81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800A-6D4C-4AFB-872C-9E01D7C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3F1C-D514-45BD-9C5F-1C0FDE2A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DA47-18EA-4D2F-AA3E-5D02E998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CCE8-4CDD-4584-BEBB-4FB73693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7167-45D8-4438-BFB8-9AA5B63C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BFAC-B152-4587-8404-C27410D7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8511-9A7B-4EF3-930A-3B3EB571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3354-5890-4C9E-A2EF-25BDCF00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DF78-13B8-4C9D-8C0E-C632875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69B4-1252-4ADE-B59D-9471EAD8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E797-F654-4BB6-94FE-CCBDAA31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2BD0-F34E-4073-95F1-1A6713C9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D154-D95A-4C02-BE0E-715D4A37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E114-2A0C-438D-9BAB-3E3CCF99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23D1-2CDD-4801-8B6E-ABACCB14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A216-69E8-4DB5-BB51-FA868247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4EFE-49C1-4078-9ABD-CEE70675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54DE-B543-4016-80CD-1F24D3EC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7C10-3DE4-47DA-897C-2889098D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5CC2-D275-4A5F-BB21-DAB28B00F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D320-5D60-4A0C-A240-11EBFB95EA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96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Дискретті және үзіліссіз ақпаратты өлшеудің ықтималдық тәсілі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280" y="3573000"/>
            <a:ext cx="860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Жұмыстың мақсаты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вести формулу энтроп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свойства меры информации и энтроп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смотреть задания лек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1509600">
            <a:off x="6877080" y="2852640"/>
            <a:ext cx="2019240" cy="140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3600360" cy="458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42920" y="6357960"/>
                <a:ext cx="7020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Garamond"/>
              </a:rPr>
              <a:t>3-тапсы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Z=(X1+1)2  дискретті кездейсоқ шамасында Х туралы қанша ақпарат бар, Мұнда  Х1  және Х2 тәуелсіз дискретті кездейсоқ шамалары бірдей ықтималдылықпен 0 немесе 1 мәнін қабылдай алады?  НХ1 және НZ-ті табыңдар. Х1 және Z арасындағы тәуелділік қандай сипатта болады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20733000">
            <a:off x="1116000" y="4797000"/>
            <a:ext cx="669600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5e5ff"/>
                </a:solidFill>
                <a:latin typeface="Garamond"/>
              </a:rPr>
              <a:t>Қолданылған әдебиеттердің тізімі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исар И., Кернер Я. Теория информации— М.: Мир, 1985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Шеннон К. Работы по теории информации и кибернетики — М., Издательство иностранной литературы, 196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глом А., Яглом И. Вероятность и информация — М.; Наука, 197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ведение в криптографию /Под общей редакцией В. В. Ященко. — М.: МЦНМО: "ЧеРо", 200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ордж Ф. Основы кибернетики — М.: Радио и Связь, 1984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қпарат теориясының негізінде Шеннон ұсынған, бір кездейсоқ шамада соған қатысты келесі кездейсоқ шама жататын ақпарат көлемін өлшеу тәсілі жатыр. Бұл тәсіл ақпарат көлемін санмен сипаттауға мүмкіндік береді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P(X=Xi)= pi, P(Y=Yj)= qj үлестірім заңымен және P(X=Xi, Y=Yj)= pij біріккен үлестірілімен берілген Х және Y кездейсоқ шамасы үшін, Y-ке қатысты Х-те жататын ақпарат көлемі мынаған тең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16360" y="5516640"/>
            <a:ext cx="3600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px(t1),  py(t2) және  pxy(t1,t2) ықтималдылығымен үлестірілген Х және Y үздіксіз кездесоқ шамасы үшін формула мына түрде болады: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Көріп тұрғанымыздай 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және бұдан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5616360" cy="858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5472000" cy="75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268360" y="5805360"/>
            <a:ext cx="532800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820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қпарат теориясында Х кездейсоқ шамасының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энтропиясы мына формуламен анықтала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688360" cy="936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3429000"/>
            <a:ext cx="85690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 u="sng">
                <a:solidFill>
                  <a:srgbClr val="ffffff"/>
                </a:solidFill>
                <a:uFillTx/>
                <a:latin typeface="Garamond"/>
              </a:rPr>
              <a:t>Энтропия және ақпарат амалдарының қасиеттері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1.                                             Х  және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Y 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тәуелсіз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2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HX=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0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X – 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тұрақты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4.                                                 мұндағы  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0" y="0"/>
                <a:ext cx="1704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11280" y="3933720"/>
                <a:ext cx="33829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0" y="0"/>
                <a:ext cx="11714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84360" y="4653000"/>
                <a:ext cx="2520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84360" y="6237360"/>
                <a:ext cx="36003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6165720"/>
                <a:ext cx="3203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5.                              егер                             онда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функцияс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0"/>
                <a:ext cx="11905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826920" y="1052640"/>
                <a:ext cx="2849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643280" y="1052640"/>
                <a:ext cx="266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теңдеуінің (х=1  болғанда теңдеу орнатылады) барлық  х – терін логарифдесек, х-1     lnx  немесе                                     теңдеуі шыға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яғни, I(X,Y)=0, барлық   i және  j үші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болғанда, яғни X және Y тәуелсіз болғанда.  Егер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және Y тәуелсіз болса, онда      және логарифм аргументтері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1-ге тең , бұдан логарифмнің өзі 0-ге тең, бұл I(X,Y)=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дегенді білдіреді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26920" y="404640"/>
                <a:ext cx="12970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е</m:t>
                        </m:r>
                      </m:e>
                      <m:sup>
                        <m:r>
                          <m:t xml:space="preserve">ч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8244000" y="907920"/>
                <a:ext cx="2934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1197000"/>
                <a:ext cx="1800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4105080" cy="128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00720" y="3645000"/>
                <a:ext cx="12970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148360" y="4581360"/>
                <a:ext cx="13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.      Аргументке қатысты формуланың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симметриялығынан туындай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3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.  Егер НХ=0,  онда НХ-ті анықтайтын қосындының барлық мүшелері нөл болуы керек, бұл тек және тек қана  Х тұрақты болғанда мүмкін болад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4.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Берілген 4 байланыст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47530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Шығаты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3200" spc="-1" strike="noStrike">
                <a:solidFill>
                  <a:srgbClr val="ffcc00"/>
                </a:solidFill>
                <a:latin typeface="Garamond"/>
              </a:rPr>
              <a:t>5)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немесе HY- H(X,Y) 0, болатынын дәлелдеу кере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ірақ                                                    яғни барлық логарифмнің аргументтері 1-ден үлкен емес, бұдан логарифмнің мәні 0-ден үлкен емес, бұл барлық қосынды 0-ден үлкен емес дегенді білдіреді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5638680" cy="59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826920" y="1916280"/>
                <a:ext cx="540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Н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5639040" cy="558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3933720"/>
                <a:ext cx="5616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5e5ff"/>
                </a:solidFill>
                <a:latin typeface="Garamond"/>
              </a:rPr>
              <a:t>Тапсырмалар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ffffff"/>
                </a:solidFill>
                <a:latin typeface="Garamond"/>
              </a:rPr>
              <a:t>1-тапсырма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Үлестірімімен берілген, Х дискретті кездейсоқ шамасының энтропиясын  табыңыздар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ffffff"/>
                </a:solidFill>
                <a:latin typeface="Garamond"/>
              </a:rPr>
              <a:t>2-тапсырма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kk-KZ" sz="2500" spc="-1" strike="noStrike">
                <a:solidFill>
                  <a:srgbClr val="ffffff"/>
                </a:solidFill>
                <a:latin typeface="Garamond"/>
              </a:rPr>
              <a:t>Х1  және Х2 дискретті кездейсоқ шамаларының мәні екі тиынды лақтырумен анықталады,  ал Y дискретті кездейсоқ шамасы осы тиындарды лақтыру кезінде түскен “гербтердің” санының қосындысына тең.Y- тен Х туралы қанша ақпарат алуға болады?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655164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8:04:00Z</dcterms:created>
  <dc:creator>SamLab.ws</dc:creator>
  <dc:description/>
  <dc:language>en-US</dc:language>
  <cp:lastModifiedBy>SamLab.ws</cp:lastModifiedBy>
  <dcterms:modified xsi:type="dcterms:W3CDTF">2010-06-03T19:16:38Z</dcterms:modified>
  <cp:revision>2</cp:revision>
  <dc:subject/>
  <dc:title>Дискретті және үзіліссіз ақпаратты өлшеудің ықтималдық тәсілі.</dc:title>
</cp:coreProperties>
</file>