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FC88-8ED6-4905-838F-BBBF5AB0E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073B-B5F4-4A4B-A3A1-FB748D76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F2BD-254D-4145-B817-508C43097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4294-7B73-4C3C-8EC9-C970EF4EC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B0D7-24BD-4040-B2C0-0D16DECC6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C54E-1759-45B0-AB44-A6BE42DA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B35D-2389-4B73-B468-3BF13A7E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14E7-835D-42D7-8370-E7C618DE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B580-C6FF-42E8-9873-DB8A6E24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3B2B-C1D9-4626-A42E-0D834961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E44E-978E-4C53-A374-A4016BE4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1C57-6497-4CBA-9D00-A27FFC6D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0759-B42C-4FDD-95D9-6AAC4544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B599-94F2-4CF0-95EF-5BCCEA72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844B-2329-4048-8050-BFD226A4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5544-EA3D-4030-9536-A82585707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8F78-4EE7-45FF-A6B0-2CF52DCFB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7624-A02A-4759-8812-CAAF8B00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F200-73F0-4436-B477-AD2A0BD2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6AC9-4EE5-4B14-B111-CEFB0C11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4262-3B12-47C2-9A9C-7576E88E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9F1F-5436-43E2-8D75-2302A1DE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011F-222E-43B3-94C4-B2C6D505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FF88-3D9B-491C-A194-21999FB7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2bc"/>
                  </a:gs>
                  <a:gs pos="100000">
                    <a:srgbClr val="dbdac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6c5b0"/>
                  </a:gs>
                  <a:gs pos="50000">
                    <a:srgbClr val="dbdac3"/>
                  </a:gs>
                  <a:gs pos="100000">
                    <a:srgbClr val="c6c5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7B80-857A-4C69-8102-B7AC806545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2bc"/>
                  </a:gs>
                  <a:gs pos="100000">
                    <a:srgbClr val="dbdac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6c5b0"/>
                  </a:gs>
                  <a:gs pos="50000">
                    <a:srgbClr val="dbdac3"/>
                  </a:gs>
                  <a:gs pos="100000">
                    <a:srgbClr val="c6c5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E15F-240F-4B8E-ABE6-C8979546D86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1628640"/>
            <a:ext cx="914400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900" spc="-1" strike="noStrike">
                <a:solidFill>
                  <a:srgbClr val="95934b"/>
                </a:solidFill>
                <a:latin typeface="Garamond"/>
              </a:rPr>
              <a:t>Шеннон энтропиясының мәні. Семантикалық ақпарат. Энтропия түсінігі және оның негізгі қасиеттері. Шартты энтропия.</a:t>
            </a:r>
            <a:endParaRPr b="0" lang="en-US" sz="39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1116000" y="836640"/>
                <a:ext cx="67309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n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in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1908000" y="5084640"/>
                <a:ext cx="49784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nt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856944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kk-KZ" sz="2800" spc="-1" strike="noStrike">
                <a:solidFill>
                  <a:srgbClr val="000000"/>
                </a:solidFill>
                <a:latin typeface="Tahoma"/>
              </a:rPr>
              <a:t>Дискретті кездейсоқ шаманың энтропиясы – бұл берілген дискретті кездейсоқ шама мәнін байланыс каналы арқылы жіберетін биттің орташа көлемінің минимум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kk-KZ" sz="2800" spc="-1" strike="noStrike">
                <a:solidFill>
                  <a:srgbClr val="000000"/>
                </a:solidFill>
                <a:latin typeface="Tahoma"/>
              </a:rPr>
              <a:t>Мысалды қарастырайық(бәйге). Бәйгеге ұтыс ықтималдылықтары бірдей 4 ат қатысады, яғни әрбір аттың ұту ықтималдылығы 1/4-ке тең. Ұтатын аттың номеріне тең Х дискретті кездейсоқ шамасын енгіземіз. Мұна НХ=2. Әрбір айналым сайын байланыс каналы арқылы ұтқан ат номері туралы 2 биттік ақпарат жіберу жеткілікті. Ат номерін келесідей кодтаймыз:1-00,2-01,3-10,4-11.Егер Х-тің берілген мәнін кодтайтын мәлімет ұзындығын қайтаратын L(X) функциясын енгізсек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324000" y="907560"/>
            <a:ext cx="836280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kk-KZ" sz="3000" spc="-1" strike="noStrike">
                <a:solidFill>
                  <a:srgbClr val="000000"/>
                </a:solidFill>
                <a:latin typeface="Tahoma"/>
              </a:rPr>
              <a:t>L-ді формальды түрде  L(X)= len(code(X)) 2 функциясы арқылы анықтауға болады, мұндағы Х-тің әр мәніне  code(X) сәйкесінше биттік код қояды және бірмәнді болады, ал len кез келген нақты кодқа ұзындығын бит түрінде қайтарады. L- бұл дискретті кездейсоқ шамадағы функция, яғни бұл да дискретті кездейсоқ шама. Бұл мысалда  ML(X)=HX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8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kk-KZ" sz="3200" spc="-1" strike="noStrike">
                <a:solidFill>
                  <a:srgbClr val="000000"/>
                </a:solidFill>
                <a:latin typeface="Tahoma"/>
              </a:rPr>
              <a:t>Х дискретті кездейсоқ шамасы келесідей үлестірілген болсы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ahoma"/>
              </a:rPr>
              <a:t>яғни, 1-ші номерлі ат-озық. Онд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777080" cy="89532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70563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95934b"/>
                </a:solidFill>
                <a:latin typeface="Tahoma"/>
              </a:rPr>
              <a:t>Семантикалық ақпарат</a:t>
            </a: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kk-KZ" sz="3200" spc="-1" strike="noStrike">
                <a:solidFill>
                  <a:srgbClr val="000000"/>
                </a:solidFill>
                <a:latin typeface="Tahoma"/>
              </a:rPr>
              <a:t>Бұл функциялардың кейбір қасиеттері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ahoma"/>
              </a:rPr>
              <a:t>Егер                        - ақиқат, онд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kk-KZ" sz="32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ahoma"/>
              </a:rPr>
              <a:t>Егер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kk-KZ" sz="3200" spc="-1" strike="noStrike">
                <a:solidFill>
                  <a:srgbClr val="000000"/>
                </a:solidFill>
                <a:latin typeface="Tahoma"/>
              </a:rPr>
              <a:t>– ақиқат, онда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</a:t>
            </a:r>
            <a:r>
              <a:rPr b="0" lang="kk-KZ" sz="3200" spc="-1" strike="noStrike">
                <a:solidFill>
                  <a:srgbClr val="000000"/>
                </a:solidFill>
                <a:latin typeface="Tahoma"/>
              </a:rPr>
              <a:t>яғни s1 және  s2 тәуелсіздігі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2124000" y="2060640"/>
                <a:ext cx="23767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971640" y="2781360"/>
                <a:ext cx="252072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n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971640" y="3213000"/>
                <a:ext cx="194472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5292720" y="3645000"/>
                <a:ext cx="22320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900000" y="4508640"/>
                <a:ext cx="71280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n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in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5934b"/>
                </a:solidFill>
                <a:latin typeface="Tahoma"/>
              </a:rPr>
              <a:t>Тапсырмалар</a:t>
            </a:r>
            <a:br>
              <a:rPr sz="4000"/>
            </a:b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052280"/>
            <a:ext cx="85406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Tahoma"/>
              </a:rPr>
              <a:t>1-тапсыр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kk-KZ" sz="3200" spc="-1" strike="noStrike">
                <a:solidFill>
                  <a:srgbClr val="000000"/>
                </a:solidFill>
                <a:latin typeface="Tahoma"/>
              </a:rPr>
              <a:t>Х  дискретті кездейсоқ шамасының энтропиясын және әрбір келтірілген кодтың орташа ұзындығын табыңдар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Tahoma"/>
              </a:rPr>
              <a:t>2-тапсыр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kk-KZ" sz="3200" spc="-1" strike="noStrike">
                <a:solidFill>
                  <a:srgbClr val="000000"/>
                </a:solidFill>
                <a:latin typeface="Tahoma"/>
              </a:rPr>
              <a:t>Х  дискретті кездейсоқ шамасы екі тиынан түскен “гербтің” санына тең. Х-тің энтропиясын табыңдар. Х үшін минималды кодты ойлап табыңдар, оның орташы ұзындығын есептеңдер және оның минималдылығын түсіндіріңдер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250560" y="549360"/>
            <a:ext cx="85914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ahoma"/>
              </a:rPr>
              <a:t>3-тапсырм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kk-KZ" sz="2400" spc="-1" strike="noStrike">
                <a:solidFill>
                  <a:srgbClr val="000000"/>
                </a:solidFill>
                <a:latin typeface="Tahoma"/>
              </a:rPr>
              <a:t>Х  дискретті кездейсоқ шамасы P(X=2n)=1/2n, n=1,2…үлестірілімімен берілген. Бұл дискретті кездейсоқ шаманың энтропиясын табыңдар. Х үшін минималды кодты ойлап табыңдар, оның орташы ұзындығын есептеңдер және оның минималдылығын түсіндіріңде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ahoma"/>
              </a:rPr>
              <a:t>4-тапсырм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kk-KZ" sz="2400" spc="-1" strike="noStrike">
                <a:solidFill>
                  <a:srgbClr val="000000"/>
                </a:solidFill>
                <a:latin typeface="Tahoma"/>
              </a:rPr>
              <a:t>Х  дискретті кездейсоқ шамасының мәні кирилица әріптері екені анық. Х-ті кезектестікпен өлшегенде, қорытындымыз- “ТЕОРИЯИНФОРМАЦИИ”-ға тең болады. Осы қорытынды негізінде  дискретті кездейсоқ шаманың ықтималдылық үлестірімінің заңын құрастыру және Х үшін минималды орташа код ұзындығын бағала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22:38:26Z</dcterms:created>
  <dc:creator>SamLab.ws</dc:creator>
  <dc:description/>
  <dc:language>en-US</dc:language>
  <cp:lastModifiedBy>SamLab.ws</cp:lastModifiedBy>
  <dcterms:modified xsi:type="dcterms:W3CDTF">2010-06-03T23:04:48Z</dcterms:modified>
  <cp:revision>2</cp:revision>
  <dc:subject/>
  <dc:title>Шеннон энтропиясының мәні. Семантикалық ақпарат. Энтропия түсінігі және оның негізгі қасиеттері. Шартты энтропия.</dc:title>
</cp:coreProperties>
</file>