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56-533A-4DC2-B8B0-6C74E76A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91C-3EFD-4DBC-AF5E-9CF710B1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8C8-C722-4C35-9DFC-BFD1CB71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8BF-259C-40F9-A631-9258C575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0CD-E3F7-4401-B156-30CB6F87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C03D-E2BF-4EF9-ADC2-43444E71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23B5-A316-4D97-B8CA-07367AB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E34C-E498-4FFC-A892-D05D03A1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F28B-B2A4-4F20-8F9D-1A0985D3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6B4-722E-4BC4-A86B-A204C2D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1DD3-8E87-49C3-BD62-BBE7745F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273-034C-4973-AAC5-BB8C23ED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807-D201-4887-A4B8-4DCA47A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23D2-2F41-4E1A-806A-2BF7A38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388-8258-4EA5-A5C3-E39255E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E41-D782-4BFC-BBAA-3DC3035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5564-3FF7-4F04-A2BC-2CDAE27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D60-B948-4178-922F-3E425A8B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684-27D5-40F5-B961-6487A84C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8D3-A136-4744-A750-2D56A6B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6A5-7133-4B8D-AFEB-AC4B576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8D7-2827-429F-BDB7-668384F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93D-40A2-45E6-A1CD-F5AB19CF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25C-3B55-47CA-BBDF-944BCF2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1FE-A433-4E15-A97C-69E39C2067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A344-7A1A-4C98-9C11-96A67B0A85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едставление информации посредством какого-либо алфав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дна и та же информация может быть представлена различны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способ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ом 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называется правило преобразования одного на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знаков в друг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т того, как представлена информация, на практике зависи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очень многое: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способы хранения, приемы, передачи и обрабо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ahoma"/>
              </a:rPr>
              <a:t>информации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Процесс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кодирования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(его также называют шифрование)инфор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мации непосредственно связан с процессом </a:t>
            </a:r>
            <a:r>
              <a:rPr b="1" lang="en-US" sz="1800" spc="-1" strike="noStrike">
                <a:solidFill>
                  <a:srgbClr val="333300"/>
                </a:solidFill>
                <a:latin typeface="Tahoma"/>
              </a:rPr>
              <a:t>декодир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(расшифрование) информ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Чем больше букв алфавита, тем проще устройство, для его расшифров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В технике большое значение имеет кодирование информации с помощ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азбуки Морзе, набор знаков телеграфного кода, двоичного кода 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rot="1560000">
            <a:off x="7331040" y="1125360"/>
            <a:ext cx="1812960" cy="432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21119400">
            <a:off x="250920" y="836280"/>
            <a:ext cx="2043000" cy="67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80000" y="692280"/>
                <a:ext cx="12967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3</m:t>
                        </m:r>
                        <m:r>
                          <m:t xml:space="preserve">С</m:t>
                        </m:r>
                        <m:sSub>
                          <m:e>
                            <m:r>
                              <m:t xml:space="preserve">7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81471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воичный алфавит.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31256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ый алфавит представлен двумя знаками- 0 и 1, или 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просто называют двоичными знаками. В английском языке двоичный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называют бит, сокращение от слова 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binary digit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И далее мы один зна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оичного алфавита (0 и 1) будем  называть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и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одирование с помощью двух знаков максимально упрощает конструк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устройств хранения и передачи информации. Ведь для предст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нформации в двоичной кодировке устройство должно уметь различ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состоя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Как же можно представить знаковую информацию с помощью двоич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алфавита?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Два знака «0» и «1» дают нам возможность закодировать только четы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символа: 00, 01, 10, 11, но этого очень мало. Ведь чтобы представи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только слова русского языка, необходимо 33 символа. Поэтому бы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решено взять для кодировки сочетание из 8 бит, т.е из 8 двоичных зна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и ей дали специальное название </a:t>
            </a:r>
            <a:r>
              <a:rPr b="1" lang="ru-RU" sz="1800" spc="-1" strike="noStrike">
                <a:solidFill>
                  <a:srgbClr val="333300"/>
                </a:solidFill>
                <a:latin typeface="Tahoma"/>
              </a:rPr>
              <a:t>байт</a:t>
            </a:r>
            <a:r>
              <a:rPr b="0" lang="ru-RU" sz="1800" spc="-1" strike="noStrike">
                <a:solidFill>
                  <a:srgbClr val="333300"/>
                </a:solidFill>
                <a:latin typeface="Tahoma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16000" y="189000"/>
            <a:ext cx="67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оды 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В вычислительной техни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наиболее употребляемыми являются коды </a:t>
            </a:r>
            <a:r>
              <a:rPr b="0" lang="en-US" sz="1600" spc="-1" strike="noStrike">
                <a:solidFill>
                  <a:srgbClr val="333300"/>
                </a:solidFill>
                <a:latin typeface="Tahoma"/>
              </a:rPr>
              <a:t>ASCII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, ч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означает американский стандартный код обмена информаци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Кодировочная таблиц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50920" y="2205000"/>
                <a:ext cx="436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2" name=""/>
          <p:cNvSpPr txBox="1"/>
          <p:nvPr/>
        </p:nvSpPr>
        <p:spPr>
          <a:xfrm>
            <a:off x="1116000" y="260280"/>
            <a:ext cx="67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дирование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836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8000" y="3284640"/>
                <a:ext cx="574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8000" y="4292640"/>
                <a:ext cx="755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2:23:10Z</dcterms:created>
  <dc:creator>Admin</dc:creator>
  <dc:description/>
  <dc:language>en-US</dc:language>
  <cp:lastModifiedBy>Admin</cp:lastModifiedBy>
  <dcterms:modified xsi:type="dcterms:W3CDTF">2009-03-05T23:24:07Z</dcterms:modified>
  <cp:revision>3</cp:revision>
  <dc:subject/>
  <dc:title>Слайд 1</dc:title>
</cp:coreProperties>
</file>