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BAB2-5BAA-4AB1-9613-6BAE92349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6F48-7EEC-48C4-9DE1-536033E6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9BC2-571E-473F-95ED-46F22D319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60AF-57CC-4749-88E0-DCEA0E647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DE8B-CDB9-4653-A090-6F1B24933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A345-DA8E-4A69-8841-B2CABDA6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E4FC-0614-4A39-B4E0-52031C5F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8A6F-27FF-44B8-AD49-AB2BDFAA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EE04-93B2-4D14-ADAD-C3EE50F7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BEF1-A724-45D1-9E37-B3A646BF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5691-B6B8-4BA8-BA07-10175205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111C-6FE8-408C-AFA5-72B07BD1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5F1E-2197-416F-AD98-07A9E6B0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7659-A59E-4B0A-B48B-85C7B4FE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9482-66D9-49FD-821E-A6F27679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14DA-9DCD-42F3-BB3D-CA0530635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B609-8776-42EB-8CCD-F3CB9F74B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D9C4C-0D40-4B9F-86F1-5D5315ECB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CA9E7-DE4F-4EB3-8520-FD540D88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40296-5A7C-4307-8460-1444957F8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ADBB5-F043-4A37-9611-1D377957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A2079-02A5-4F3D-8C9A-0A8FF4D5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071D-AAF9-4F82-9909-A4577803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6249A-07CA-455B-89F3-641833B7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D1D06-67DF-47DA-9ED6-F5D0C744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903E7-562E-4D60-84B0-0F4C7FAB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E76E9-FBAB-4FE5-948C-AB5BA1FC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2F90D-305B-4285-81A0-1E6E552D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12066-D948-4525-904C-7E70C5820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E1F55-4AEC-4EEF-9038-6ACBB0BEB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9BD5A-384E-4186-922F-31D062477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55486-97AD-494A-B831-E4F69F7B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AEECA-E8E0-4351-83C0-74F47387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4F63-CAED-436B-BD1A-EDEB0688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5ACB5-7790-4826-894E-7D1C51C2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561BC-20D8-4613-8764-B2677BC2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6F58A-0C4E-4AEF-8F4E-3FB8DA91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50FC2-9514-4349-9384-64FAE759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969F7-E0B2-43C6-995B-19417990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5CB18-E4D5-4AA1-A58E-DAF7BC5E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7A79B-421D-4A20-B245-C18A6B3F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923E4-4BE6-4A5A-8DFE-B25CA3628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244F7-D8A5-48F2-90B5-243FA5EB2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D7C79-2E49-4408-A147-ACBA525B6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5C4A-0BDA-4A03-8A20-24C806AE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A0FD0-4218-4F47-AD7B-05A2A08C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B8C85-671A-44E0-8B42-2F872802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97304-A561-4532-8E3B-1612AB10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88947-FC86-4A7A-B777-13008CEC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9DBD0-103C-47E9-9417-2EC03D88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2C463-5008-4201-8C10-8DECB888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93B8D-16CD-4B8B-8EF2-4F475930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4723C-5176-41BE-A80C-7DC85FDD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4D16E-D9D6-4898-A35D-AD3DC4F9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B3390-67A6-416F-B7F7-0ACB8AA10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6380-9BFC-4D35-AAC0-BA66836B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78DF6-7D7F-4BD8-9F21-877FED0AB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2DC6B-BB91-447A-8EA1-B24C04AFA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25027-BAB3-463D-AFB7-3D7673E3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9D66C-D25B-441F-AAEC-BB8F02B4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07F81-B717-4E19-BA55-4019838E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6A2F5-7FCA-4A34-973C-5E2BC84B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FDAF8-392D-4FB4-86CA-61D2F576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04D3F-BB68-40D8-928E-CE8A51CF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FF89D-C6B3-4156-8FFF-10F9FFDD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A65C0-E944-48DA-86FC-E67A0365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AAB4-9772-4637-A819-667A9757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AB417-4B99-472F-A38A-0F6F0539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B1DE7-5367-4E54-B79C-B1EC7A912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3D624-6B26-41FA-A535-AD6F647CC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9B275-CEEC-4C6C-8F9B-0F6278540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3FC52-9CBD-4000-BC1C-AA454522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B0B74-4EE0-4D38-9211-21633EB0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39B6D-A9D8-4183-BA80-F403BAEB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FF277-4634-4814-BBA5-7F71A169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018B5-40D7-400D-BA05-64535103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001B8-200D-4213-AC06-3027D31D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9CA2-C2F7-444D-9DA6-6F7EEAA6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A060B-DB2A-48BC-98E6-F83661BA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2EC70-8D41-4AC2-A6DA-94540947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7B4D9-0964-4C5A-9ABC-89F149D3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27CCA-8AD4-43FC-8486-33E279A0D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4A77C-01A3-4034-A9E8-9487854F5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45721-817B-46A0-913A-EC50E8EC2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324D4-A403-45FF-A28E-E7169ED1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BE7B0-83EE-43B8-AB48-03F8F11E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E8C50-DCDE-40FF-8DB4-D0B44C02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69B90-6F15-41FE-BBC3-8D330605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0569-9E69-4CA7-AFA1-87AAC014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1EF67-F1E4-4319-B184-A545FD83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EA2BF-4862-464A-808F-772AB4AD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42962-2137-4288-8E49-4C276889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8771A-3698-4EB4-9732-F8A85C02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782BC-D37E-49E7-B6EE-28977314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9CF47-34BE-4447-87F6-6422DB746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CC667-CF5E-445F-8893-A9998BB95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5788-68AA-46E2-9411-FA09A63E5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5f6e4d"/>
              </a:gs>
              <a:gs pos="100000">
                <a:srgbClr val="c6d9b2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3092-A884-4676-A972-668B0417E7F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A8A5-0C03-4F71-A860-311B11203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5f6e4d"/>
              </a:gs>
              <a:gs pos="100000">
                <a:srgbClr val="c6d9b2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1CA8-08BB-47EB-BA86-7631705F9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B7D4-0141-416A-ADF5-AA7C85EB2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E5F3-BF84-4AEA-930C-6FF36F632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CA8E-43F9-431E-8DFC-A2B80960341F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8B41-9E7F-4776-93EA-5051AFB840FC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603360" y="1974960"/>
            <a:ext cx="8412120" cy="1481040"/>
          </a:xfrm>
          <a:prstGeom prst="rect">
            <a:avLst/>
          </a:prstGeom>
          <a:ln w="0">
            <a:noFill/>
          </a:ln>
        </p:spPr>
      </p:pic>
      <p:pic>
        <p:nvPicPr>
          <p:cNvPr id="346" name="Черно-белые Дни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3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Фигура, имеющая форму буквы L 4"/>
          <p:cNvSpPr/>
          <p:nvPr/>
        </p:nvSpPr>
        <p:spPr>
          <a:xfrm>
            <a:off x="1143000" y="1905120"/>
            <a:ext cx="914400" cy="914400"/>
          </a:xfrm>
          <a:prstGeom prst="pie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Прямая соединительная линия 10"/>
          <p:cNvSpPr/>
          <p:nvPr/>
        </p:nvSpPr>
        <p:spPr>
          <a:xfrm flipH="1">
            <a:off x="988560" y="1677960"/>
            <a:ext cx="3240" cy="4191120"/>
          </a:xfrm>
          <a:prstGeom prst="line">
            <a:avLst/>
          </a:prstGeom>
          <a:ln w="9360">
            <a:solidFill>
              <a:srgbClr val="a5b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Прямая соединительная линия 19"/>
          <p:cNvSpPr/>
          <p:nvPr/>
        </p:nvSpPr>
        <p:spPr>
          <a:xfrm flipV="1">
            <a:off x="8456760" y="3049560"/>
            <a:ext cx="2880" cy="2743200"/>
          </a:xfrm>
          <a:prstGeom prst="line">
            <a:avLst/>
          </a:prstGeom>
          <a:ln w="9360">
            <a:solidFill>
              <a:srgbClr val="a5b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Прямая соединительная линия 23"/>
          <p:cNvSpPr/>
          <p:nvPr/>
        </p:nvSpPr>
        <p:spPr>
          <a:xfrm flipH="1">
            <a:off x="8458200" y="1676520"/>
            <a:ext cx="1440" cy="915840"/>
          </a:xfrm>
          <a:prstGeom prst="line">
            <a:avLst/>
          </a:prstGeom>
          <a:ln w="9360">
            <a:solidFill>
              <a:srgbClr val="a5b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Прямая соединительная линия 25"/>
          <p:cNvSpPr/>
          <p:nvPr/>
        </p:nvSpPr>
        <p:spPr>
          <a:xfrm>
            <a:off x="8457480" y="2590920"/>
            <a:ext cx="304920" cy="380880"/>
          </a:xfrm>
          <a:prstGeom prst="line">
            <a:avLst/>
          </a:prstGeom>
          <a:ln w="9360">
            <a:solidFill>
              <a:srgbClr val="a5b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Прямоугольник 27"/>
          <p:cNvSpPr/>
          <p:nvPr/>
        </p:nvSpPr>
        <p:spPr>
          <a:xfrm>
            <a:off x="1752480" y="2057400"/>
            <a:ext cx="228600" cy="152280"/>
          </a:xfrm>
          <a:prstGeom prst="rect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Прямоугольник 28"/>
          <p:cNvSpPr/>
          <p:nvPr/>
        </p:nvSpPr>
        <p:spPr>
          <a:xfrm>
            <a:off x="2895480" y="1752480"/>
            <a:ext cx="3200400" cy="76320"/>
          </a:xfrm>
          <a:prstGeom prst="rect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56" name="Прямая со стрелкой 30"/>
          <p:cNvCxnSpPr/>
          <p:nvPr/>
        </p:nvCxnSpPr>
        <p:spPr>
          <a:xfrm>
            <a:off x="6171840" y="1752120"/>
            <a:ext cx="2515320" cy="2520"/>
          </a:xfrm>
          <a:prstGeom prst="straightConnector1">
            <a:avLst/>
          </a:prstGeom>
          <a:ln w="9360">
            <a:solidFill>
              <a:srgbClr val="a5b98e"/>
            </a:solidFill>
            <a:miter/>
            <a:tailEnd len="med" type="arrow" w="med"/>
          </a:ln>
        </p:spPr>
      </p:cxnSp>
      <p:sp>
        <p:nvSpPr>
          <p:cNvPr id="357" name="TextBox 31"/>
          <p:cNvSpPr/>
          <p:nvPr/>
        </p:nvSpPr>
        <p:spPr>
          <a:xfrm>
            <a:off x="8846280" y="1676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58" name="Прямая со стрелкой 33"/>
          <p:cNvCxnSpPr/>
          <p:nvPr/>
        </p:nvCxnSpPr>
        <p:spPr>
          <a:xfrm flipH="1">
            <a:off x="761760" y="2057400"/>
            <a:ext cx="305280" cy="76680"/>
          </a:xfrm>
          <a:prstGeom prst="straightConnector1">
            <a:avLst/>
          </a:prstGeom>
          <a:ln w="9360">
            <a:solidFill>
              <a:srgbClr val="a5b98e"/>
            </a:solidFill>
            <a:miter/>
            <a:tailEnd len="med" type="arrow" w="med"/>
          </a:ln>
        </p:spPr>
      </p:cxnSp>
      <p:sp>
        <p:nvSpPr>
          <p:cNvPr id="359" name="Блок-схема: процесс 35"/>
          <p:cNvSpPr/>
          <p:nvPr/>
        </p:nvSpPr>
        <p:spPr>
          <a:xfrm>
            <a:off x="1219320" y="2895480"/>
            <a:ext cx="228600" cy="83844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Блок-схема: процесс 36"/>
          <p:cNvSpPr/>
          <p:nvPr/>
        </p:nvSpPr>
        <p:spPr>
          <a:xfrm>
            <a:off x="1219320" y="3733920"/>
            <a:ext cx="228600" cy="83808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Блок-схема: процесс 37"/>
          <p:cNvSpPr/>
          <p:nvPr/>
        </p:nvSpPr>
        <p:spPr>
          <a:xfrm>
            <a:off x="1219320" y="4648320"/>
            <a:ext cx="228600" cy="83808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Блок-схема: процесс 45"/>
          <p:cNvSpPr/>
          <p:nvPr/>
        </p:nvSpPr>
        <p:spPr>
          <a:xfrm>
            <a:off x="7924680" y="4648320"/>
            <a:ext cx="228600" cy="83808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Блок-схема: процесс 47"/>
          <p:cNvSpPr/>
          <p:nvPr/>
        </p:nvSpPr>
        <p:spPr>
          <a:xfrm>
            <a:off x="7924680" y="3809880"/>
            <a:ext cx="228600" cy="83844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Блок-схема: процесс 48"/>
          <p:cNvSpPr/>
          <p:nvPr/>
        </p:nvSpPr>
        <p:spPr>
          <a:xfrm>
            <a:off x="1447920" y="5486400"/>
            <a:ext cx="914400" cy="22860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Блок-схема: процесс 49"/>
          <p:cNvSpPr/>
          <p:nvPr/>
        </p:nvSpPr>
        <p:spPr>
          <a:xfrm>
            <a:off x="3276720" y="5486400"/>
            <a:ext cx="914400" cy="22860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Блок-схема: процесс 50"/>
          <p:cNvSpPr/>
          <p:nvPr/>
        </p:nvSpPr>
        <p:spPr>
          <a:xfrm>
            <a:off x="4191120" y="5486400"/>
            <a:ext cx="914400" cy="22860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Блок-схема: процесс 51"/>
          <p:cNvSpPr/>
          <p:nvPr/>
        </p:nvSpPr>
        <p:spPr>
          <a:xfrm>
            <a:off x="5105520" y="5486400"/>
            <a:ext cx="914400" cy="22860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Блок-схема: процесс 52"/>
          <p:cNvSpPr/>
          <p:nvPr/>
        </p:nvSpPr>
        <p:spPr>
          <a:xfrm>
            <a:off x="2362320" y="5486400"/>
            <a:ext cx="914400" cy="22860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Блок-схема: процесс 53"/>
          <p:cNvSpPr/>
          <p:nvPr/>
        </p:nvSpPr>
        <p:spPr>
          <a:xfrm>
            <a:off x="6019920" y="5486400"/>
            <a:ext cx="914400" cy="22860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Блок-схема: процесс 54"/>
          <p:cNvSpPr/>
          <p:nvPr/>
        </p:nvSpPr>
        <p:spPr>
          <a:xfrm>
            <a:off x="6934320" y="5486400"/>
            <a:ext cx="914400" cy="22860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Прямая соединительная линия 56"/>
          <p:cNvSpPr/>
          <p:nvPr/>
        </p:nvSpPr>
        <p:spPr>
          <a:xfrm>
            <a:off x="990720" y="5867280"/>
            <a:ext cx="7467480" cy="1800"/>
          </a:xfrm>
          <a:prstGeom prst="line">
            <a:avLst/>
          </a:prstGeom>
          <a:ln w="9360">
            <a:solidFill>
              <a:srgbClr val="a5b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Прямая соединительная линия 58"/>
          <p:cNvSpPr/>
          <p:nvPr/>
        </p:nvSpPr>
        <p:spPr>
          <a:xfrm>
            <a:off x="990720" y="1676520"/>
            <a:ext cx="7467480" cy="1440"/>
          </a:xfrm>
          <a:prstGeom prst="line">
            <a:avLst/>
          </a:prstGeom>
          <a:ln w="9360">
            <a:solidFill>
              <a:srgbClr val="a5b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Блок-схема: процесс 61"/>
          <p:cNvSpPr/>
          <p:nvPr/>
        </p:nvSpPr>
        <p:spPr>
          <a:xfrm>
            <a:off x="1523880" y="3200400"/>
            <a:ext cx="152640" cy="15228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Блок-схема: процесс 62"/>
          <p:cNvSpPr/>
          <p:nvPr/>
        </p:nvSpPr>
        <p:spPr>
          <a:xfrm>
            <a:off x="1523880" y="4038480"/>
            <a:ext cx="152640" cy="15264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Блок-схема: процесс 63"/>
          <p:cNvSpPr/>
          <p:nvPr/>
        </p:nvSpPr>
        <p:spPr>
          <a:xfrm>
            <a:off x="1523880" y="4876920"/>
            <a:ext cx="152640" cy="15228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Блок-схема: процесс 64"/>
          <p:cNvSpPr/>
          <p:nvPr/>
        </p:nvSpPr>
        <p:spPr>
          <a:xfrm>
            <a:off x="1752480" y="5257800"/>
            <a:ext cx="152640" cy="15228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Блок-схема: процесс 65"/>
          <p:cNvSpPr/>
          <p:nvPr/>
        </p:nvSpPr>
        <p:spPr>
          <a:xfrm>
            <a:off x="2590920" y="5257800"/>
            <a:ext cx="152280" cy="15228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Блок-схема: процесс 66"/>
          <p:cNvSpPr/>
          <p:nvPr/>
        </p:nvSpPr>
        <p:spPr>
          <a:xfrm>
            <a:off x="3581280" y="5257800"/>
            <a:ext cx="152640" cy="15228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Блок-схема: процесс 67"/>
          <p:cNvSpPr/>
          <p:nvPr/>
        </p:nvSpPr>
        <p:spPr>
          <a:xfrm>
            <a:off x="4495680" y="5257800"/>
            <a:ext cx="152640" cy="15228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Блок-схема: процесс 68"/>
          <p:cNvSpPr/>
          <p:nvPr/>
        </p:nvSpPr>
        <p:spPr>
          <a:xfrm>
            <a:off x="5334120" y="5257800"/>
            <a:ext cx="152280" cy="15228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Блок-схема: процесс 69"/>
          <p:cNvSpPr/>
          <p:nvPr/>
        </p:nvSpPr>
        <p:spPr>
          <a:xfrm>
            <a:off x="6248520" y="5257800"/>
            <a:ext cx="152280" cy="15228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Блок-схема: процесс 70"/>
          <p:cNvSpPr/>
          <p:nvPr/>
        </p:nvSpPr>
        <p:spPr>
          <a:xfrm>
            <a:off x="7162920" y="5257800"/>
            <a:ext cx="152280" cy="15228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Блок-схема: процесс 71"/>
          <p:cNvSpPr/>
          <p:nvPr/>
        </p:nvSpPr>
        <p:spPr>
          <a:xfrm>
            <a:off x="7696080" y="5029200"/>
            <a:ext cx="152640" cy="15228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Блок-схема: процесс 72"/>
          <p:cNvSpPr/>
          <p:nvPr/>
        </p:nvSpPr>
        <p:spPr>
          <a:xfrm>
            <a:off x="7696080" y="4191120"/>
            <a:ext cx="152640" cy="152280"/>
          </a:xfrm>
          <a:prstGeom prst="flowChartProcess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TextBox 77"/>
          <p:cNvSpPr/>
          <p:nvPr/>
        </p:nvSpPr>
        <p:spPr>
          <a:xfrm>
            <a:off x="459360" y="342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86" name="Прямая со стрелкой 79"/>
          <p:cNvCxnSpPr>
            <a:endCxn id="385" idx="3"/>
          </p:cNvCxnSpPr>
          <p:nvPr/>
        </p:nvCxnSpPr>
        <p:spPr>
          <a:xfrm flipH="1">
            <a:off x="756720" y="3505320"/>
            <a:ext cx="386640" cy="108720"/>
          </a:xfrm>
          <a:prstGeom prst="straightConnector1">
            <a:avLst/>
          </a:prstGeom>
          <a:ln w="9360">
            <a:solidFill>
              <a:srgbClr val="a5b98e"/>
            </a:solidFill>
            <a:miter/>
            <a:tailEnd len="med" type="arrow" w="med"/>
          </a:ln>
        </p:spPr>
      </p:cxnSp>
      <p:sp>
        <p:nvSpPr>
          <p:cNvPr id="387" name="TextBox 80"/>
          <p:cNvSpPr/>
          <p:nvPr/>
        </p:nvSpPr>
        <p:spPr>
          <a:xfrm>
            <a:off x="8534520" y="3352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88" name="Соединительная линия уступом 82"/>
          <p:cNvCxnSpPr>
            <a:endCxn id="384" idx="1"/>
          </p:cNvCxnSpPr>
          <p:nvPr/>
        </p:nvCxnSpPr>
        <p:spPr>
          <a:xfrm flipV="1" rot="10800000">
            <a:off x="7695360" y="3504960"/>
            <a:ext cx="915120" cy="762480"/>
          </a:xfrm>
          <a:prstGeom prst="bentConnector3">
            <a:avLst>
              <a:gd name="adj1" fmla="val 124990"/>
            </a:avLst>
          </a:prstGeom>
          <a:ln w="9360">
            <a:solidFill>
              <a:srgbClr val="a5b98e"/>
            </a:solidFill>
            <a:miter/>
            <a:tailEnd len="med" type="arrow" w="med"/>
          </a:ln>
        </p:spPr>
      </p:cxnSp>
      <p:sp>
        <p:nvSpPr>
          <p:cNvPr id="389" name="TextBox 90"/>
          <p:cNvSpPr/>
          <p:nvPr/>
        </p:nvSpPr>
        <p:spPr>
          <a:xfrm>
            <a:off x="0" y="6248520"/>
            <a:ext cx="93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-стол учителя, 2-доска, 3-парта, 4-стул ученика, 5-стул учителя,  6-дверь в кабин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TextBox 93"/>
          <p:cNvSpPr/>
          <p:nvPr/>
        </p:nvSpPr>
        <p:spPr>
          <a:xfrm>
            <a:off x="1905120" y="1523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91" name="Прямая со стрелкой 95"/>
          <p:cNvCxnSpPr>
            <a:endCxn id="354" idx="0"/>
          </p:cNvCxnSpPr>
          <p:nvPr/>
        </p:nvCxnSpPr>
        <p:spPr>
          <a:xfrm flipH="1">
            <a:off x="1866240" y="1828440"/>
            <a:ext cx="114840" cy="229320"/>
          </a:xfrm>
          <a:prstGeom prst="straightConnector1">
            <a:avLst/>
          </a:prstGeom>
          <a:ln w="9360">
            <a:solidFill>
              <a:srgbClr val="a5b98e"/>
            </a:solidFill>
            <a:miter/>
            <a:tailEnd len="med" type="arrow" w="med"/>
          </a:ln>
        </p:spPr>
      </p:cxnSp>
      <p:sp>
        <p:nvSpPr>
          <p:cNvPr id="392" name="TextBox 96"/>
          <p:cNvSpPr/>
          <p:nvPr/>
        </p:nvSpPr>
        <p:spPr>
          <a:xfrm>
            <a:off x="8763120" y="2286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93" name="Прямая со стрелкой 98"/>
          <p:cNvCxnSpPr/>
          <p:nvPr/>
        </p:nvCxnSpPr>
        <p:spPr>
          <a:xfrm flipH="1">
            <a:off x="8534160" y="2513520"/>
            <a:ext cx="305280" cy="229320"/>
          </a:xfrm>
          <a:prstGeom prst="straightConnector1">
            <a:avLst/>
          </a:prstGeom>
          <a:ln w="9360">
            <a:solidFill>
              <a:srgbClr val="a5b98e"/>
            </a:solidFill>
            <a:miter/>
            <a:tailEnd len="med" type="arrow" w="med"/>
          </a:ln>
        </p:spPr>
      </p:cxn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К работе в кабинете информатики допускаются лица, прошедшие медицинский осмотр и полный инструктаж.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Работать можно только на исправных компьютерах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Знать правила эксплуатации используемого оборудова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Необходимо знать порядок правильного включения и выключения оборудова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Перед включением общего электропитания нужно проверить исходное положение всех выключателей и выключить их, если они включены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Не допускать разборку аппаратуры, как во время работы, так и после нее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Не включать компьютеры без разрешения учител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После включения компьютера проверить стабильность и четкость изображения на экране монитора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1" dur="5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72440" cy="14079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378720">
              <a:lnSpc>
                <a:spcPct val="90000"/>
              </a:lnSpc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для учащихся 1-х классов 10 минут;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43160" indent="-378720">
              <a:lnSpc>
                <a:spcPct val="90000"/>
              </a:lnSpc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для учащихся 2-5-х классов 15 минут;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43160" indent="-378720">
              <a:lnSpc>
                <a:spcPct val="90000"/>
              </a:lnSpc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для учащихся 6-7-х классов 20 минут;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43160" indent="-378720">
              <a:lnSpc>
                <a:spcPct val="90000"/>
              </a:lnSpc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для учащихся 8-9-х классов 25 минут;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43160" indent="-378720">
              <a:lnSpc>
                <a:spcPct val="90000"/>
              </a:lnSpc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для учащихся 10-11-х классов - при двух уроках информатики подряд, на первом - 30 мин., на втором - 20 мин., после чего на перемене выполнять специальные упражнения, снимающих зрительное утомление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" dur="5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304560"/>
            <a:ext cx="8229600" cy="61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В случае замыкания: появления искр, запаха гари, отключить электропитание и сообщить об этом учителю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При плохом самочувствии, появлении головной боли, головокружения и др. прекратить работу и сообщить об этом учителю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Запрещается трогать разъемы и соединительные кабели аппаратуры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Запрещается использовать воду и пенные огнетушители для тушения загоревшейся аппаратуры, так как эти средства являются проводниками тока и, следовательно, могут привести к короткому замыканию и к поражению током человека, производящего тушение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При возникновении пожара его надо тушить с помощью первичных средств, к которым относятся: песок, противопожарная ткань, ручные химические огнетушители (воздушно-пенные, углекислотные, бромэтиловые, порошковые) и противопожарный инвентарь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1444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371600"/>
            <a:ext cx="8229600" cy="50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4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мещение кабинета информатики должно удовлетворять следующим требованиям: на каждый компьютер - 6 кв. м. и 6 куб. м. общей площади кабинета. Размещение компьютеров задними стенками к глухим стенкам кабинета, по его периметру. Кабинет должен иметь окна на север или северо-запад , а также систему кондиционирования или возможность проветривания для обмена свежего воздуха. Температура воздуха в кабинете должна находиться в пределах 19...21°С. В кабинете каждый день необходимо проводить влажную уборку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spcBef>
                <a:spcPts val="4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Компьютерная техника должна размещаться на специальных столах, обеспечивающих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spcBef>
                <a:spcPts val="4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угол наклона и подставку для монитора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spcBef>
                <a:spcPts val="4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дставку для клавиатуры на уровне, комфортном для рук работающих учеников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spcBef>
                <a:spcPts val="4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ширину, достаточную для размещения всех устройств компьютера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spcBef>
                <a:spcPts val="4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остаточное расстояние (не менее 60 см.) от глаз учащихся до поверхности монитора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spcBef>
                <a:spcPts val="4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тулья, на которых должны работать учащиеся должны быть следующими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spcBef>
                <a:spcPts val="4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егулируемые по высоте сидения (учитывать рост учащихся)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spcBef>
                <a:spcPts val="4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ворачиваться (регуляция положения)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spcBef>
                <a:spcPts val="4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егулирующими по высоте спинки (регулируемая по роста опора для снятия нагрузки с поясничного отдела работающего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5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352000" cy="14079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Строго выполнять правила техники безопасности и санитарно-гигиенические нормы при работе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Выполнять команды учителя, во время возникновения чрезвычайных ситуаций действовать по правилам, изложенным выше и обязательно обращаться к учителю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Не бегать, не прыгать, не драться, находясь в данном помещении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Приходить в кабинет всегда только в сменной обуви и без верхней одежды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Работать только чистыми сухими руками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Не размещать ни каких предметов на устройствах компьютера (мониторе, системном блоке, клавиатуре, мыши и т.д.)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Не есть в кабинете, в том числе и за рабочими местами у компьютеров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За компьютером выполнять только те задания, которые предложены учителем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Не устанавливать никаких конфигураций в компьютере без разрешения учителя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Не пользоваться своими дискетами и компакт-дисками, без разрешения учителя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382680">
              <a:lnSpc>
                <a:spcPct val="80000"/>
              </a:lnSpc>
              <a:spcBef>
                <a:spcPts val="425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Закрывать все компьютерные окна и программы перед завершением своей работы, выключением компьютера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5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иман</cp:lastModifiedBy>
  <dcterms:modified xsi:type="dcterms:W3CDTF">2009-02-13T03:34:57Z</dcterms:modified>
  <cp:revision>5</cp:revision>
  <dc:subject/>
  <dc:title>Кабинет информатики</dc:title>
</cp:coreProperties>
</file>