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CCD0-35F9-4FC1-B297-14A06F4F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DCB2-C5B5-4BE1-A87F-4B03BC15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D5AF-2566-48A2-93BE-74FDC71E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0545C-A3E2-4D61-9163-7E0B2F09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A9A4-C36A-4A2F-95F6-9BA4ED48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5CE7-2E0F-4FF9-BA55-417D8EF0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3084-1144-443B-BA99-2268D19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A4CA-6724-456D-B5D6-D265865B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60AA-B3A8-4E98-9010-78DE9A1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D73E-E9B1-48D6-B328-3A3950A5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6643-8B30-47EA-9A30-D7D6D7A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F274-B4C6-4C6B-83EB-5469F3E2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2DBB-8002-41C3-A592-18D054CC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14B2-8EE3-4117-8AA0-96F5A103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024-A8F0-4132-99F2-FF96E822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B578-BA4A-4DD2-9909-4A7D8A42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DD7C-620E-4CF7-83D8-7D46412D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A3B7-E4A4-48A7-AD4D-77C65069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ECF7-9D22-4E70-BE77-A93274D8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F08C-0194-4E80-8931-2EBB909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30F9-0043-4F32-89CE-2D8E5E3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A171-DB2E-4A53-9E08-E705FC7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FDDA-9903-4C21-88F2-A893FA3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3460-B673-4C36-9247-5E7A6089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27E-FA79-422E-8C29-8926CCBF79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4947-F060-47E8-9631-F4C9AD3CC4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99308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7200" spc="-1" strike="noStrike">
                <a:solidFill>
                  <a:srgbClr val="00007d"/>
                </a:solidFill>
                <a:latin typeface="Arial"/>
              </a:rPr>
              <a:t>Ақпарат түрлер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91920" y="3789000"/>
            <a:ext cx="8451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764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700" spc="-1" strike="noStrike">
                <a:solidFill>
                  <a:srgbClr val="ffffff"/>
                </a:solidFill>
                <a:latin typeface="Arial"/>
              </a:rPr>
              <a:t>Жұмыстың мақсаты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Изучить виды информ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Изучить теорему о выборка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Рассмотреть использование теоремы на практи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lnSpc>
                <a:spcPct val="8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7d"/>
                </a:solidFill>
                <a:latin typeface="Arial"/>
              </a:rPr>
              <a:t>Упражн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476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458040" y="1643040"/>
            <a:ext cx="2685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800" spc="-1" strike="noStrike">
                <a:solidFill>
                  <a:srgbClr val="00007d"/>
                </a:solidFill>
                <a:latin typeface="Arial"/>
              </a:rPr>
              <a:t>Ақпарат түрлер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74640"/>
            <a:ext cx="91440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Ақпарат екі түрде, яғни : </a:t>
            </a:r>
            <a:r>
              <a:rPr b="0" i="1" lang="kk-KZ" sz="2500" spc="-1" strike="noStrike">
                <a:solidFill>
                  <a:srgbClr val="000000"/>
                </a:solidFill>
                <a:latin typeface="Arial"/>
              </a:rPr>
              <a:t>дискретті (цифрлы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және </a:t>
            </a:r>
            <a:r>
              <a:rPr b="0" i="1" lang="kk-KZ" sz="2500" spc="-1" strike="noStrike">
                <a:solidFill>
                  <a:srgbClr val="000000"/>
                </a:solidFill>
                <a:latin typeface="Arial"/>
              </a:rPr>
              <a:t>үздіксіз(аналогтық)</a:t>
            </a: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болад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Дискретті ақпарат  кейбір шаманың кезектескен нақты  мәні арқылы, ал үздіксіз – кейбір шаманың өзгеруінің үздіксіз процесі арқылы сипатталады.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Дискретті ақпаратты кез келген цифрлы индикатордан, яғни электорнды сағаттан, есептеуіш құрылығысынан және т.б. алуға бола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Arial"/>
              </a:rPr>
              <a:t>Үздіксіз ақпаратты атмосфералық қысымды немесе автокөліктің жылдамдығын  көрсететін құралдар береді.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893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искреттік ақпарат- адаммен жұмыс істе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ыңғайлы, бірақ үздіксіз ақпарат тәжірибелі жұмыст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і кездеседі, сондықтан үздіксіз ақпарат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искреттікке немесе керісінше аударуды білу керек. Модем осындай аударуға арналған құрылғы бол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саналады, ол компьютерден цифрлық деректер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дыбысқа және  электормагниттік тербеліске аудар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немесе керісін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Үздіксіз ақпаратты дискреттіге аударғанда, үздіксіз шаманың мәнін анықтайтын периодты анықтайтын  </a:t>
            </a:r>
            <a:r>
              <a:rPr b="0" i="1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дискреттеу</a:t>
            </a:r>
            <a:r>
              <a:rPr b="0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kk-KZ" sz="2500" spc="-1" strike="noStrike" u="sng">
                <a:solidFill>
                  <a:srgbClr val="000000"/>
                </a:solidFill>
                <a:uFillTx/>
                <a:latin typeface="Times New Roman"/>
              </a:rPr>
              <a:t>жиілігі</a:t>
            </a:r>
            <a:r>
              <a:rPr b="0" i="1" lang="kk-K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өте қажет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"/>
              <p:cNvSpPr txBox="1"/>
              <p:nvPr/>
            </p:nvSpPr>
            <p:spPr>
              <a:xfrm>
                <a:off x="5003640" y="1557360"/>
                <a:ext cx="15843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5" name="Picture 13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4822920" cy="1295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5"/>
          <p:cNvSpPr/>
          <p:nvPr/>
        </p:nvSpPr>
        <p:spPr>
          <a:xfrm>
            <a:off x="3564000" y="263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ығу сиг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6" descr=""/>
          <p:cNvPicPr/>
          <p:nvPr/>
        </p:nvPicPr>
        <p:blipFill>
          <a:blip r:embed="rId2"/>
          <a:stretch/>
        </p:blipFill>
        <p:spPr>
          <a:xfrm>
            <a:off x="1763640" y="5229360"/>
            <a:ext cx="5643720" cy="129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8"/>
          <p:cNvSpPr/>
          <p:nvPr/>
        </p:nvSpPr>
        <p:spPr>
          <a:xfrm>
            <a:off x="3635280" y="472428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искретті сиг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Times New Roman"/>
              </a:rPr>
              <a:t>Таңдау туралы теор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3680" y="1483920"/>
            <a:ext cx="85899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Кез келген үздіксіз шама, гормоника деп аталаты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ункциясымен анықталаты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амплитуд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ілік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 уақыт жән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фаз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бір-бірімен қабаттасқан толқындық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</a:rPr>
              <a:t>жиынымен анықта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Таңдау туралы теоремада дискреттеу нақ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бол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үшін оның жиілігі дискреттеу шамаға енеті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гармоника жиілігінен 2 есе үлкен болуы керек  д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</a:rPr>
              <a:t>айтылғ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407880" y="1989000"/>
                <a:ext cx="1773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2050920" y="2565360"/>
                <a:ext cx="3603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6084720" y="2565360"/>
                <a:ext cx="270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ие теор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Бұл теореманың қолдануының мысалы ретінде дыбысты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ақпаратты цифрлы түрде сақталатын лазерлік компак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искілерді айтуға болады. Дискреттеу жиілігі жоғ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болған сайын, дыбыстың шығуы нақтырақ болады жә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оны бір дискіге жазуға болады, бірақ адам 20 КГц – 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ейінгі жиіліктегі дыбыстарды айыра алатындықтан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дыбыстарды үлкен жиілікпен дәл жазудың пайдасы жо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Таңдау туралы теоремаға сәйкес дискреттеу жиілігі 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КГц – тен аз болмауы керек(өнеркәсіптік стандартқ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00"/>
                </a:solidFill>
                <a:latin typeface="Times New Roman"/>
              </a:rPr>
              <a:t>сәйкес компакт-дискіде 44,1 КГц жиілік қолданылады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200" spc="-1" strike="noStrike">
                <a:solidFill>
                  <a:srgbClr val="000000"/>
                </a:solidFill>
                <a:latin typeface="Arial"/>
              </a:rPr>
              <a:t>Тапсырма</a:t>
            </a:r>
            <a:r>
              <a:rPr b="1" lang="kk-KZ" sz="4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ДАТ цифрлы магнитофонның дискреттеу жиілігі – 48КГц.  Мұндай магнитофонда нақты дыбыс толқынының максимальды жиілігі қандай бола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6:42:07Z</dcterms:created>
  <dc:creator>SamLab.ws</dc:creator>
  <dc:description/>
  <dc:language>en-US</dc:language>
  <cp:lastModifiedBy>SamLab.ws</cp:lastModifiedBy>
  <dcterms:modified xsi:type="dcterms:W3CDTF">2010-06-03T22:12:21Z</dcterms:modified>
  <cp:revision>3</cp:revision>
  <dc:subject/>
  <dc:title>Ақпарат түрлері</dc:title>
</cp:coreProperties>
</file>